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5.jpeg" ContentType="image/jpeg"/>
  <Override PartName="/ppt/media/image2.jpeg" ContentType="image/jpeg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76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103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69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5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149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52.xml.rels" ContentType="application/vnd.openxmlformats-package.relationships+xml"/>
  <Override PartName="/ppt/slides/_rels/slide55.xml.rels" ContentType="application/vnd.openxmlformats-package.relationships+xml"/>
  <Override PartName="/ppt/slides/_rels/slide29.xml.rels" ContentType="application/vnd.openxmlformats-package.relationships+xml"/>
  <Override PartName="/ppt/slides/_rels/slide40.xml.rels" ContentType="application/vnd.openxmlformats-package.relationships+xml"/>
  <Override PartName="/ppt/slides/_rels/slide145.xml.rels" ContentType="application/vnd.openxmlformats-package.relationships+xml"/>
  <Override PartName="/ppt/slides/_rels/slide130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5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2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19.xml.rels" ContentType="application/vnd.openxmlformats-package.relationships+xml"/>
  <Override PartName="/ppt/slides/_rels/slide100.xml.rels" ContentType="application/vnd.openxmlformats-package.relationships+xml"/>
  <Override PartName="/ppt/slides/_rels/slide23.xml.rels" ContentType="application/vnd.openxmlformats-package.relationships+xml"/>
  <Override PartName="/ppt/slides/_rels/slide13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113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44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6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28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54.xml" ContentType="application/vnd.openxmlformats-officedocument.presentationml.slide+xml"/>
  <Override PartName="/ppt/slides/slide150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878E2-B97D-4D8A-90AB-7160598343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43C95-5B56-4987-9AA2-1CD6CCE8A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83364-AEF8-4A62-BA0D-526D2403A3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36/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2851B-31F2-4D68-9A94-00BEACE98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36/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86389-0BCD-4696-B80D-AF01699B7A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36/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4419E-499D-4246-9B63-D64D098C76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36/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B9DCD-44DB-45D8-B857-5E01B45B5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36/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B3F22-1631-4019-8BBF-1B904C1C5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36/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5B705-BB01-40D0-8260-A75455303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36/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6C279-6748-4637-B874-6870F0A79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5EA8-1B2F-4426-8FCA-0AC99BD2A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4AB7-CC2C-4759-8B47-81B6EE2B2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7A7F-3D1D-469C-8297-776F9EF17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BBFE-F48F-4114-9AF8-48386EF3C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6CBF-E925-410B-B60F-55602A8EC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5CBC-23AE-45EC-B095-708FD617F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C8B4-77A1-42FA-98F4-898287970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AE62-CBD2-4845-9A0B-2DA581CAB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B7AB-E9AF-4B4D-B5DB-ADB2F0D13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F84C-F675-41BD-AB69-265F35AC1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368A-C695-40F1-A4A2-47F398D1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F189-18EB-43EE-9643-756B69677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5FE43-5484-4BC5-9D2A-A6D7B693310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ХИГИЈЕНА И ЕКОЛОГ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98989"/>
                </a:solidFill>
                <a:latin typeface="Calibri"/>
              </a:rPr>
              <a:t>ДРУГА НЕДЕЉА НАСТАВ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539640" y="333360"/>
            <a:ext cx="79250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стоје две дефиниције зву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1. Физи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вук је низ промена било притиска, померања честица, механичког напона или каквог другог напрезања, које се јавља у еластичној или вискозној среди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. Физиоло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вук је све оно што чујемо, тј. Звук је осећај који се прима преко органа слуха,  а изазван је променама ваздушног притис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Text Box 2"/>
          <p:cNvSpPr/>
          <p:nvPr/>
        </p:nvSpPr>
        <p:spPr>
          <a:xfrm>
            <a:off x="762120" y="5335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ЈАЧАЊЕ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ОРГАНИЗМА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ВАЗДУХ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3"/>
          <p:cNvSpPr/>
          <p:nvPr/>
        </p:nvSpPr>
        <p:spPr>
          <a:xfrm>
            <a:off x="762120" y="1828800"/>
            <a:ext cx="7467480" cy="47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Јачањ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организм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ваздухом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неки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називају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“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ВАЗДУШНО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КУПАЊ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Ваздух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делуј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н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организ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реко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роприорецепт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утем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топлотних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војста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механичк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јач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трујањ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мају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јач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дејство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ојачав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терморегулацион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механиз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реко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надражај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ЦНС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КВС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Text Box 2"/>
          <p:cNvSpPr/>
          <p:nvPr/>
        </p:nvSpPr>
        <p:spPr>
          <a:xfrm>
            <a:off x="762120" y="5335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ЈАЧАЊЕ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ОРГАНИЗМА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ВАЗДУХ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3"/>
          <p:cNvSpPr/>
          <p:nvPr/>
        </p:nvSpPr>
        <p:spPr>
          <a:xfrm>
            <a:off x="762120" y="2057400"/>
            <a:ext cx="74674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Ваздух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којим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с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купамо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мож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би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Times New Roman"/>
              </a:rPr>
              <a:t>топао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sr-Latn-CS" sz="28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1" i="1" lang="sr-CS" sz="2800" spc="-1" strike="noStrike">
                <a:solidFill>
                  <a:srgbClr val="000066"/>
                </a:solidFill>
                <a:latin typeface="Times New Roman"/>
              </a:rPr>
              <a:t>температура</a:t>
            </a:r>
            <a:r>
              <a:rPr b="1" i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sr-CS" sz="2800" spc="-1" strike="noStrike">
                <a:solidFill>
                  <a:srgbClr val="000066"/>
                </a:solidFill>
                <a:latin typeface="Times New Roman"/>
              </a:rPr>
              <a:t>ваздуха</a:t>
            </a:r>
            <a:r>
              <a:rPr b="1" i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sr-CS" sz="2800" spc="-1" strike="noStrike">
                <a:solidFill>
                  <a:srgbClr val="000066"/>
                </a:solidFill>
                <a:latin typeface="Times New Roman"/>
              </a:rPr>
              <a:t>преко</a:t>
            </a:r>
            <a:r>
              <a:rPr b="1" i="1" lang="sr-Latn-CS" sz="2800" spc="-1" strike="noStrike">
                <a:solidFill>
                  <a:srgbClr val="000066"/>
                </a:solidFill>
                <a:latin typeface="Times New Roman"/>
              </a:rPr>
              <a:t> 19</a:t>
            </a:r>
            <a:r>
              <a:rPr b="1" i="1" lang="sr-Latn-CS" sz="2800" spc="-1" strike="noStrike" baseline="30000">
                <a:solidFill>
                  <a:srgbClr val="000066"/>
                </a:solidFill>
                <a:latin typeface="Times New Roman"/>
              </a:rPr>
              <a:t>0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C</a:t>
            </a:r>
            <a:r>
              <a:rPr b="1" i="1" lang="sr-Latn-CS" sz="28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Times New Roman"/>
              </a:rPr>
              <a:t>прохладан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sr-Latn-CS" sz="28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1" i="1" lang="sr-CS" sz="2800" spc="-1" strike="noStrike">
                <a:solidFill>
                  <a:srgbClr val="000066"/>
                </a:solidFill>
                <a:latin typeface="Times New Roman"/>
              </a:rPr>
              <a:t>температура</a:t>
            </a:r>
            <a:r>
              <a:rPr b="1" i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sr-CS" sz="2800" spc="-1" strike="noStrike">
                <a:solidFill>
                  <a:srgbClr val="000066"/>
                </a:solidFill>
                <a:latin typeface="Times New Roman"/>
              </a:rPr>
              <a:t>ваздуха</a:t>
            </a:r>
            <a:r>
              <a:rPr b="1" i="1" lang="sr-Latn-CS" sz="2800" spc="-1" strike="noStrike">
                <a:solidFill>
                  <a:srgbClr val="000066"/>
                </a:solidFill>
                <a:latin typeface="Times New Roman"/>
              </a:rPr>
              <a:t> 11-18</a:t>
            </a:r>
            <a:r>
              <a:rPr b="1" i="1" lang="sr-Latn-CS" sz="2800" spc="-1" strike="noStrike" baseline="30000">
                <a:solidFill>
                  <a:srgbClr val="000066"/>
                </a:solidFill>
                <a:latin typeface="Times New Roman"/>
              </a:rPr>
              <a:t>0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C</a:t>
            </a:r>
            <a:r>
              <a:rPr b="1" i="1" lang="sr-Latn-CS" sz="28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Times New Roman"/>
              </a:rPr>
              <a:t>хладан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sr-Latn-CS" sz="28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1" i="1" lang="sr-CS" sz="2800" spc="-1" strike="noStrike">
                <a:solidFill>
                  <a:srgbClr val="000066"/>
                </a:solidFill>
                <a:latin typeface="Times New Roman"/>
              </a:rPr>
              <a:t>температура</a:t>
            </a:r>
            <a:r>
              <a:rPr b="1" i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sr-CS" sz="2800" spc="-1" strike="noStrike">
                <a:solidFill>
                  <a:srgbClr val="000066"/>
                </a:solidFill>
                <a:latin typeface="Times New Roman"/>
              </a:rPr>
              <a:t>ваздуха</a:t>
            </a:r>
            <a:r>
              <a:rPr b="1" i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sr-CS" sz="2800" spc="-1" strike="noStrike">
                <a:solidFill>
                  <a:srgbClr val="000066"/>
                </a:solidFill>
                <a:latin typeface="Times New Roman"/>
              </a:rPr>
              <a:t>до</a:t>
            </a:r>
            <a:r>
              <a:rPr b="1" i="1" lang="sr-Latn-CS" sz="2800" spc="-1" strike="noStrike">
                <a:solidFill>
                  <a:srgbClr val="000066"/>
                </a:solidFill>
                <a:latin typeface="Times New Roman"/>
              </a:rPr>
              <a:t> 10</a:t>
            </a:r>
            <a:r>
              <a:rPr b="1" i="1" lang="sr-Latn-CS" sz="2800" spc="-1" strike="noStrike" baseline="30000">
                <a:solidFill>
                  <a:srgbClr val="000066"/>
                </a:solidFill>
                <a:latin typeface="Times New Roman"/>
              </a:rPr>
              <a:t>0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C</a:t>
            </a:r>
            <a:r>
              <a:rPr b="1" i="1" lang="sr-Latn-CS" sz="28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Text Box 2"/>
          <p:cNvSpPr/>
          <p:nvPr/>
        </p:nvSpPr>
        <p:spPr>
          <a:xfrm>
            <a:off x="762120" y="5335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ЈАЧАЊЕ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ОРГАНИЗМА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ВАЗДУХ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3"/>
          <p:cNvSpPr/>
          <p:nvPr/>
        </p:nvSpPr>
        <p:spPr>
          <a:xfrm>
            <a:off x="762120" y="2057400"/>
            <a:ext cx="7467480" cy="50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Током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“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купањ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ваздухом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”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треб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водити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рачун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величини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расхлађив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здравственом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стањ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субјективном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осећају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sr-Latn-CS" sz="28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1" i="1" lang="sr-CS" sz="2800" spc="-1" strike="noStrike">
                <a:solidFill>
                  <a:srgbClr val="000066"/>
                </a:solidFill>
                <a:latin typeface="Times New Roman"/>
              </a:rPr>
              <a:t>главни</a:t>
            </a:r>
            <a:r>
              <a:rPr b="1" i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sr-CS" sz="2800" spc="-1" strike="noStrike">
                <a:solidFill>
                  <a:srgbClr val="000066"/>
                </a:solidFill>
                <a:latin typeface="Times New Roman"/>
              </a:rPr>
              <a:t>регулатор</a:t>
            </a:r>
            <a:r>
              <a:rPr b="1" i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sr-CS" sz="2800" spc="-1" strike="noStrike">
                <a:solidFill>
                  <a:srgbClr val="000066"/>
                </a:solidFill>
                <a:latin typeface="Times New Roman"/>
              </a:rPr>
              <a:t>времена</a:t>
            </a:r>
            <a:r>
              <a:rPr b="1" i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sr-CS" sz="2800" spc="-1" strike="noStrike">
                <a:solidFill>
                  <a:srgbClr val="000066"/>
                </a:solidFill>
                <a:latin typeface="Times New Roman"/>
              </a:rPr>
              <a:t>излагања</a:t>
            </a:r>
            <a:r>
              <a:rPr b="1" i="1" lang="sr-Latn-CS" sz="28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времену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узимањ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хран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sr-Latn-CS" sz="28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1" i="1" lang="sr-CS" sz="2800" spc="-1" strike="noStrike">
                <a:solidFill>
                  <a:srgbClr val="000066"/>
                </a:solidFill>
                <a:latin typeface="Times New Roman"/>
              </a:rPr>
              <a:t>купати</a:t>
            </a:r>
            <a:r>
              <a:rPr b="1" i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sr-CS" sz="2800" spc="-1" strike="noStrike">
                <a:solidFill>
                  <a:srgbClr val="000066"/>
                </a:solidFill>
                <a:latin typeface="Times New Roman"/>
              </a:rPr>
              <a:t>се</a:t>
            </a:r>
            <a:r>
              <a:rPr b="1" i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sr-CS" sz="2800" spc="-1" strike="noStrike">
                <a:solidFill>
                  <a:srgbClr val="000066"/>
                </a:solidFill>
                <a:latin typeface="Times New Roman"/>
              </a:rPr>
              <a:t>тек</a:t>
            </a:r>
            <a:r>
              <a:rPr b="1" i="1" lang="sr-Latn-CS" sz="2800" spc="-1" strike="noStrike">
                <a:solidFill>
                  <a:srgbClr val="000066"/>
                </a:solidFill>
                <a:latin typeface="Times New Roman"/>
              </a:rPr>
              <a:t> 1,5 </a:t>
            </a:r>
            <a:r>
              <a:rPr b="1" i="1" lang="sr-CS" sz="2800" spc="-1" strike="noStrike">
                <a:solidFill>
                  <a:srgbClr val="000066"/>
                </a:solidFill>
                <a:latin typeface="Times New Roman"/>
              </a:rPr>
              <a:t>до</a:t>
            </a:r>
            <a:r>
              <a:rPr b="1" i="1" lang="sr-Latn-CS" sz="2800" spc="-1" strike="noStrike">
                <a:solidFill>
                  <a:srgbClr val="000066"/>
                </a:solidFill>
                <a:latin typeface="Times New Roman"/>
              </a:rPr>
              <a:t> 2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h</a:t>
            </a:r>
            <a:r>
              <a:rPr b="1" i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sr-CS" sz="2800" spc="-1" strike="noStrike">
                <a:solidFill>
                  <a:srgbClr val="000066"/>
                </a:solidFill>
                <a:latin typeface="Times New Roman"/>
              </a:rPr>
              <a:t>након</a:t>
            </a:r>
            <a:r>
              <a:rPr b="1" i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sr-CS" sz="2800" spc="-1" strike="noStrike">
                <a:solidFill>
                  <a:srgbClr val="000066"/>
                </a:solidFill>
                <a:latin typeface="Times New Roman"/>
              </a:rPr>
              <a:t>узимања</a:t>
            </a:r>
            <a:r>
              <a:rPr b="1" i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sr-CS" sz="2800" spc="-1" strike="noStrike">
                <a:solidFill>
                  <a:srgbClr val="000066"/>
                </a:solidFill>
                <a:latin typeface="Times New Roman"/>
              </a:rPr>
              <a:t>хране</a:t>
            </a:r>
            <a:r>
              <a:rPr b="1" i="1" lang="sr-Latn-CS" sz="28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 Box 2"/>
          <p:cNvSpPr/>
          <p:nvPr/>
        </p:nvSpPr>
        <p:spPr>
          <a:xfrm>
            <a:off x="762120" y="5335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ЈАЧАЊЕ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ОРГАНИЗМА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ВАЗДУХ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3"/>
          <p:cNvSpPr/>
          <p:nvPr/>
        </p:nvSpPr>
        <p:spPr>
          <a:xfrm>
            <a:off x="762120" y="1752480"/>
            <a:ext cx="7467480" cy="46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Начин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излагањ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при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купању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ваздухом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треб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д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поступан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очињ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ривикнутих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делов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тел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олако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откривају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друг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делов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Почиње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 “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ваздушним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бањама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”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које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имају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комфорне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услов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зон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комфор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),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д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некомформн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усло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током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купањ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обавезно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треба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крета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Text Box 2"/>
          <p:cNvSpPr/>
          <p:nvPr/>
        </p:nvSpPr>
        <p:spPr>
          <a:xfrm>
            <a:off x="762120" y="5335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ЈАЧАЊЕ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ОРГАНИЗМА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СУНЦЕМ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3"/>
          <p:cNvSpPr/>
          <p:nvPr/>
        </p:nvSpPr>
        <p:spPr>
          <a:xfrm>
            <a:off x="762120" y="1676520"/>
            <a:ext cx="7467480" cy="47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Сунчањ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треб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д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буд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поступно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рв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дан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до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5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мин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.,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ваког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наредног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родужит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з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5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мин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.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до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остизањ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добр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игментациј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.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злагањ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започет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рукам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ногам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пољн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тран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леђ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груд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онд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унутрашњестран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екстремитет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лабин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кожу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трбух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складу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са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јачином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зрачењ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UV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кал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такво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д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у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глава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очи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откривени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делови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тела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периоду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 10-17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заштићени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директног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сунчевог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зрачења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 Box 2"/>
          <p:cNvSpPr/>
          <p:nvPr/>
        </p:nvSpPr>
        <p:spPr>
          <a:xfrm>
            <a:off x="762120" y="5335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ЈАЧАЊЕ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ОРГАНИЗМА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СУНЦ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762120" y="149220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Сунчањем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организам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излажемо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ултравиолетном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инфрацрвеном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зрачењу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4" descr=""/>
          <p:cNvPicPr/>
          <p:nvPr/>
        </p:nvPicPr>
        <p:blipFill>
          <a:blip r:embed="rId1"/>
          <a:stretch/>
        </p:blipFill>
        <p:spPr>
          <a:xfrm>
            <a:off x="990720" y="3086280"/>
            <a:ext cx="6781680" cy="32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Text Box 2"/>
          <p:cNvSpPr/>
          <p:nvPr/>
        </p:nvSpPr>
        <p:spPr>
          <a:xfrm>
            <a:off x="179280" y="1676520"/>
            <a:ext cx="8278920" cy="48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Ултравиолетно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зраче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по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физичким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особинам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ј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оптичк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радијациј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брзин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кретањ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око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300000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km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/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)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електромагнетског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карактер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Подел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УВ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зрач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315-400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ритемно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јство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ње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ктивни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Б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e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280-315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актерицидно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нтирахитично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јство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Ц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e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испод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280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µ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убија живе ћелиј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3"/>
          <p:cNvSpPr/>
          <p:nvPr/>
        </p:nvSpPr>
        <p:spPr>
          <a:xfrm>
            <a:off x="762120" y="5335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ЈАЧАЊЕ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ОРГАНИЗМА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СУНЦ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5" descr="http://blog.meteo-info.hr/wp-content/uploads/2009/10/1.jpg"/>
          <p:cNvPicPr/>
          <p:nvPr/>
        </p:nvPicPr>
        <p:blipFill>
          <a:blip r:embed="rId1"/>
          <a:stretch/>
        </p:blipFill>
        <p:spPr>
          <a:xfrm>
            <a:off x="6875640" y="1136520"/>
            <a:ext cx="1830240" cy="10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 Box 2"/>
          <p:cNvSpPr/>
          <p:nvPr/>
        </p:nvSpPr>
        <p:spPr>
          <a:xfrm>
            <a:off x="762120" y="2060640"/>
            <a:ext cx="7696080" cy="32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66"/>
                </a:solidFill>
                <a:latin typeface="Times New Roman"/>
              </a:rPr>
              <a:t>Ултравиолетно</a:t>
            </a:r>
            <a:r>
              <a:rPr b="1" lang="sr-Latn-CS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0066"/>
                </a:solidFill>
                <a:latin typeface="Times New Roman"/>
              </a:rPr>
              <a:t>зрачењ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Уз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топлотне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ветлосне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зраке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видљивог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дела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унчевог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пектра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остоји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онај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невидљиви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ултраљубичастих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зрака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: 40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%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чини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нфрацрвени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део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амо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10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%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унчевог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пектра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чини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ултраљубичасто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зрачење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.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Тај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део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пектра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је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биолошки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најактивнији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3"/>
          <p:cNvSpPr/>
          <p:nvPr/>
        </p:nvSpPr>
        <p:spPr>
          <a:xfrm>
            <a:off x="762120" y="5335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ЈАЧАЊЕ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ОРГАНИЗМА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СУНЦ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2"/>
          <p:cNvSpPr/>
          <p:nvPr/>
        </p:nvSpPr>
        <p:spPr>
          <a:xfrm>
            <a:off x="762120" y="1523880"/>
            <a:ext cx="7467480" cy="49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Ултравиолетно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зраче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радијацију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утич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положај</a:t>
            </a:r>
            <a:r>
              <a:rPr b="1" lang="sr-Latn-C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сун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дебљина</a:t>
            </a:r>
            <a:r>
              <a:rPr b="1" lang="sr-Latn-C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слоја</a:t>
            </a:r>
            <a:r>
              <a:rPr b="1" lang="sr-Latn-C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атмосфе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састав</a:t>
            </a:r>
            <a:r>
              <a:rPr b="1" lang="sr-Latn-C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атмосфе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надморска</a:t>
            </a:r>
            <a:r>
              <a:rPr b="1" lang="sr-Latn-C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вис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метеоролошке</a:t>
            </a:r>
            <a:r>
              <a:rPr b="1" lang="sr-Latn-C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појаве</a:t>
            </a:r>
            <a:r>
              <a:rPr b="1" lang="sr-Latn-CS" sz="20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ув</a:t>
            </a:r>
            <a:r>
              <a:rPr b="1" lang="sr-Latn-C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радијацију</a:t>
            </a:r>
            <a:r>
              <a:rPr b="1" lang="sr-Latn-C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рефлектују</a:t>
            </a:r>
            <a:r>
              <a:rPr b="1" lang="sr-Latn-CS" sz="2000" spc="-1" strike="noStrike">
                <a:solidFill>
                  <a:srgbClr val="000066"/>
                </a:solidFill>
                <a:latin typeface="Times New Roman"/>
              </a:rPr>
              <a:t>: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снег</a:t>
            </a:r>
            <a:r>
              <a:rPr b="1" lang="sr-Latn-CS" sz="20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око</a:t>
            </a:r>
            <a:r>
              <a:rPr b="1" lang="sr-Latn-CS" sz="2000" spc="-1" strike="noStrike">
                <a:solidFill>
                  <a:srgbClr val="000066"/>
                </a:solidFill>
                <a:latin typeface="Times New Roman"/>
              </a:rPr>
              <a:t>75%)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sr-Latn-C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мањи</a:t>
            </a:r>
            <a:r>
              <a:rPr b="1" lang="sr-Latn-C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облаци</a:t>
            </a:r>
            <a:r>
              <a:rPr b="1" lang="sr-Latn-CS" sz="20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до</a:t>
            </a:r>
            <a:r>
              <a:rPr b="1" lang="sr-Latn-CS" sz="2000" spc="-1" strike="noStrike">
                <a:solidFill>
                  <a:srgbClr val="000066"/>
                </a:solidFill>
                <a:latin typeface="Times New Roman"/>
              </a:rPr>
              <a:t> 100%)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густина</a:t>
            </a:r>
            <a:r>
              <a:rPr b="1" lang="sr-Latn-C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насељености</a:t>
            </a:r>
            <a:r>
              <a:rPr b="1" lang="sr-Latn-CS" sz="20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у</a:t>
            </a:r>
            <a:r>
              <a:rPr b="1" lang="sr-Latn-C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великим</a:t>
            </a:r>
            <a:r>
              <a:rPr b="1" lang="sr-Latn-C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градовима</a:t>
            </a:r>
            <a:r>
              <a:rPr b="1" lang="sr-Latn-C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радијација</a:t>
            </a:r>
            <a:r>
              <a:rPr b="1" lang="sr-Latn-C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је</a:t>
            </a:r>
            <a:r>
              <a:rPr b="1" lang="sr-Latn-C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смањена</a:t>
            </a:r>
            <a:r>
              <a:rPr b="1" lang="sr-Latn-C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за</a:t>
            </a:r>
            <a:r>
              <a:rPr b="1" lang="sr-Latn-C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око</a:t>
            </a:r>
            <a:r>
              <a:rPr b="1" lang="sr-Latn-CS" sz="2000" spc="-1" strike="noStrike">
                <a:solidFill>
                  <a:srgbClr val="000066"/>
                </a:solidFill>
                <a:latin typeface="Times New Roman"/>
              </a:rPr>
              <a:t> 1/5,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а</a:t>
            </a:r>
            <a:r>
              <a:rPr b="1" lang="sr-Latn-C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зими</a:t>
            </a:r>
            <a:r>
              <a:rPr b="1" lang="sr-Latn-C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sr-Latn-C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при</a:t>
            </a:r>
            <a:r>
              <a:rPr b="1" lang="sr-Latn-C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нижем</a:t>
            </a:r>
            <a:r>
              <a:rPr b="1" lang="sr-Latn-C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положају</a:t>
            </a:r>
            <a:r>
              <a:rPr b="1" lang="sr-Latn-C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сунца</a:t>
            </a:r>
            <a:r>
              <a:rPr b="1" lang="sr-Latn-C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sr-Latn-C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више</a:t>
            </a:r>
            <a:r>
              <a:rPr b="1" lang="sr-Latn-CS" sz="20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3"/>
          <p:cNvSpPr/>
          <p:nvPr/>
        </p:nvSpPr>
        <p:spPr>
          <a:xfrm>
            <a:off x="762120" y="5335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ЈАЧАЊЕ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ОРГАНИЗМА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СУНЦ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 Box 2"/>
          <p:cNvSpPr/>
          <p:nvPr/>
        </p:nvSpPr>
        <p:spPr>
          <a:xfrm>
            <a:off x="762120" y="1787400"/>
            <a:ext cx="7543800" cy="48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УВ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нде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УВ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ндекс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редставља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дневну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рогнозу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очекиваног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ризика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рекомерног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злагања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унцу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оказује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тепен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опреза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који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е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мора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узети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у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обзир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риликом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боравка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на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отвореном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редвиђа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јачину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УВ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зрачења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за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одређено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одручје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у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ледећем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дану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на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кали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од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0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до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10+ (0 =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минимални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ризик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, 10+=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врло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високи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ризик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реомерног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злагања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унцу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),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узимајући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у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обзир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временске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рилике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опут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облачности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ветра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других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локалних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ромена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које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утичу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на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количину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УВ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зрака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762120" y="5335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ЈАЧАЊЕ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ОРГАНИЗМА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СУНЦ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4" descr=""/>
          <p:cNvPicPr/>
          <p:nvPr/>
        </p:nvPicPr>
        <p:blipFill>
          <a:blip r:embed="rId1"/>
          <a:stretch/>
        </p:blipFill>
        <p:spPr>
          <a:xfrm>
            <a:off x="7020000" y="1052640"/>
            <a:ext cx="2035080" cy="160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3"/>
          <p:cNvSpPr/>
          <p:nvPr/>
        </p:nvSpPr>
        <p:spPr>
          <a:xfrm>
            <a:off x="685800" y="2206800"/>
            <a:ext cx="7848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рган слуха код људи је неосетљив на сталан ваздушни притисак, али је осетљив на брзе промене притиска које се стварају вибрирањем површ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астојање између два узастопна слоја сабијеног или два узастопна слоја разређеног ваздуха је ТАЛАСНА ДУЖ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ext Box 2"/>
          <p:cNvSpPr/>
          <p:nvPr/>
        </p:nvSpPr>
        <p:spPr>
          <a:xfrm>
            <a:off x="762120" y="13716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УВ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инде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762120" y="5335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ЈАЧАЊЕ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ОРГАНИЗМА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СУНЦ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4" descr=""/>
          <p:cNvPicPr/>
          <p:nvPr/>
        </p:nvPicPr>
        <p:blipFill>
          <a:blip r:embed="rId1"/>
          <a:stretch/>
        </p:blipFill>
        <p:spPr>
          <a:xfrm>
            <a:off x="914400" y="2109960"/>
            <a:ext cx="7543800" cy="44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Text Box 2"/>
          <p:cNvSpPr/>
          <p:nvPr/>
        </p:nvSpPr>
        <p:spPr>
          <a:xfrm>
            <a:off x="762120" y="13716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УВ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инде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3"/>
          <p:cNvSpPr/>
          <p:nvPr/>
        </p:nvSpPr>
        <p:spPr>
          <a:xfrm>
            <a:off x="762120" y="5335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ЈАЧАЊЕ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ОРГАНИЗМА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СУНЦ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5" descr=""/>
          <p:cNvPicPr/>
          <p:nvPr/>
        </p:nvPicPr>
        <p:blipFill>
          <a:blip r:embed="rId1"/>
          <a:stretch/>
        </p:blipFill>
        <p:spPr>
          <a:xfrm>
            <a:off x="378000" y="2205000"/>
            <a:ext cx="846432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Text Box 2"/>
          <p:cNvSpPr/>
          <p:nvPr/>
        </p:nvSpPr>
        <p:spPr>
          <a:xfrm>
            <a:off x="762120" y="13716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УВ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инде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762120" y="5335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ЈАЧАЊЕ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ОРГАНИЗМА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СУНЦ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Picture 4" descr=""/>
          <p:cNvPicPr/>
          <p:nvPr/>
        </p:nvPicPr>
        <p:blipFill>
          <a:blip r:embed="rId1"/>
          <a:stretch/>
        </p:blipFill>
        <p:spPr>
          <a:xfrm>
            <a:off x="914400" y="1976400"/>
            <a:ext cx="7086600" cy="44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Text Box 2"/>
          <p:cNvSpPr/>
          <p:nvPr/>
        </p:nvSpPr>
        <p:spPr>
          <a:xfrm>
            <a:off x="762120" y="1660680"/>
            <a:ext cx="7848360" cy="37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SP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od Solar Protection Factor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фактор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заштите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од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унца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говори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нам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колико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просечно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можемо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остати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на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сунцу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уз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примену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средстава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с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одређеним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заштитним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фактором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а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да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не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настану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опекотине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.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Ово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треба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схватити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уз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ограничења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зависно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од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типа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коже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најосетљивија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су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црвенкоса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плавокоса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деца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),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а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повећање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заштитног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фактора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не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значи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пропорционално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повећање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дужине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сигурног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излагања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сунцу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.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3"/>
          <p:cNvSpPr/>
          <p:nvPr/>
        </p:nvSpPr>
        <p:spPr>
          <a:xfrm>
            <a:off x="762120" y="5335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ЈАЧАЊЕ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ОРГАНИЗМА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СУНЦ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xt Box 2"/>
          <p:cNvSpPr/>
          <p:nvPr/>
        </p:nvSpPr>
        <p:spPr>
          <a:xfrm>
            <a:off x="762120" y="1676520"/>
            <a:ext cx="7467480" cy="46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Биолошко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дејство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УВ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зрачењ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зависи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таласн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дужин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што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краћа-дејство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јач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изложе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дел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т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Индивидуалне осетљивости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привремен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сталн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3"/>
          <p:cNvSpPr/>
          <p:nvPr/>
        </p:nvSpPr>
        <p:spPr>
          <a:xfrm>
            <a:off x="762120" y="5335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ЈАЧАЊЕ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ОРГАНИЗМА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СУНЦ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ext Box 2"/>
          <p:cNvSpPr/>
          <p:nvPr/>
        </p:nvSpPr>
        <p:spPr>
          <a:xfrm>
            <a:off x="762120" y="1676520"/>
            <a:ext cx="746748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Биолошко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дејство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УВ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зрачењ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мож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би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локално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опш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корис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штет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3"/>
          <p:cNvSpPr/>
          <p:nvPr/>
        </p:nvSpPr>
        <p:spPr>
          <a:xfrm>
            <a:off x="762120" y="5335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ЈАЧАЊЕ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ОРГАНИЗМА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СУНЦ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Text Box 2"/>
          <p:cNvSpPr/>
          <p:nvPr/>
        </p:nvSpPr>
        <p:spPr>
          <a:xfrm>
            <a:off x="762120" y="1676520"/>
            <a:ext cx="7467480" cy="45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Биолошко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дејство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УВ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зрачењ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доводи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д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ромен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H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кож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раст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киселост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мањуј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метаболизам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N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овећав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општ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дисајн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метаболиз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овећав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метаболизам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холестер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омаж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разградњу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беланчеин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маст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угљених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хидрат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Т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h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дијабетес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ојачав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таложењ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кост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62120" y="5335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ЈАЧАЊЕ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ОРГАНИЗМА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СУНЦ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ext Box 2"/>
          <p:cNvSpPr/>
          <p:nvPr/>
        </p:nvSpPr>
        <p:spPr>
          <a:xfrm>
            <a:off x="876240" y="1268280"/>
            <a:ext cx="7467840" cy="52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Биолошко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дејство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УВ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зрачењ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доводи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д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овећав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злучивањ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мокраћн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киселин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Т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h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гихт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успорав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родубљуј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дис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очетку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овећав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након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ојав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еритем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нижав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крвн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ритис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до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10%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убрзав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циркулаци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овећав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број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L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Т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r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као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коагулабилност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кр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тимулиш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тварањ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антит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3"/>
          <p:cNvSpPr/>
          <p:nvPr/>
        </p:nvSpPr>
        <p:spPr>
          <a:xfrm>
            <a:off x="762120" y="5335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ЈАЧАЊЕ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ОРГАНИЗМА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СУНЦ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 Box 2"/>
          <p:cNvSpPr/>
          <p:nvPr/>
        </p:nvSpPr>
        <p:spPr>
          <a:xfrm>
            <a:off x="762120" y="1676520"/>
            <a:ext cx="7467480" cy="43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Опрез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при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сунчању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треб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д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имају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особ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ко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злажу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унцу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раниј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1,5-2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h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јел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кад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у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јел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тешко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варљиву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храну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до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3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h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у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гладн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матр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д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он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н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меју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злагат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унцу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унчају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јуну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јулу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августу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10-17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9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мал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дец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асматичн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лав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особ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3"/>
          <p:cNvSpPr/>
          <p:nvPr/>
        </p:nvSpPr>
        <p:spPr>
          <a:xfrm>
            <a:off x="762120" y="5335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ЈАЧАЊЕ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ОРГАНИЗМА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СУНЦ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ext Box 2"/>
          <p:cNvSpPr/>
          <p:nvPr/>
        </p:nvSpPr>
        <p:spPr>
          <a:xfrm>
            <a:off x="760320" y="1268280"/>
            <a:ext cx="7467840" cy="54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Опрез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при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сунчању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треб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д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имају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оболели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ТБ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астен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неуровегетативних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обољ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психоз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диг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e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стивних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сметњ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хематопоезних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обољењ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анемиј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др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кожних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обољењ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изузетак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псоријаз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3"/>
          <p:cNvSpPr/>
          <p:nvPr/>
        </p:nvSpPr>
        <p:spPr>
          <a:xfrm>
            <a:off x="762120" y="5335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ЈАЧАЊЕ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ОРГАНИЗМА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СУНЦ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3"/>
          <p:cNvSpPr/>
          <p:nvPr/>
        </p:nvSpPr>
        <p:spPr>
          <a:xfrm>
            <a:off x="539640" y="549360"/>
            <a:ext cx="82090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рзина којом површина посматраног тела вибрира је ФРЕКФЕНЦА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број осцилација у једној секунди) и зражава се у херцима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z). Човечије ухо може да чује звучне таласе од 16 до 20000 Hz, а најбоље чује од 500 до 4000 Hz. Звучни таласи испод 16 Hz се називају инфразвук, а изнад 20000 Hz ултразву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ГЛАСНОСТ БУКЕ се одређује органом слуха и зависи од јачине и фрекфенцијског састава буке. Јединица гласности је фон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. Један фон је јачина 1 децибела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на фрекфенцији од 1000 H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ext Box 2"/>
          <p:cNvSpPr/>
          <p:nvPr/>
        </p:nvSpPr>
        <p:spPr>
          <a:xfrm>
            <a:off x="795240" y="1989000"/>
            <a:ext cx="746784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Times New Roman"/>
              </a:rPr>
              <a:t>СМАТРА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Times New Roman"/>
              </a:rPr>
              <a:t>СЕ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Times New Roman"/>
              </a:rPr>
              <a:t>ДА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Times New Roman"/>
              </a:rPr>
              <a:t>НА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Times New Roman"/>
              </a:rPr>
              <a:t>СУНЧАЊЕ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Times New Roman"/>
              </a:rPr>
              <a:t>МАЊЕ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Times New Roman"/>
              </a:rPr>
              <a:t>СУ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Times New Roman"/>
              </a:rPr>
              <a:t>ОСЕТЉИВИ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1" lang="sr-CS" sz="2800" spc="-1" strike="noStrike">
                <a:solidFill>
                  <a:srgbClr val="ff0000"/>
                </a:solidFill>
                <a:latin typeface="Times New Roman"/>
              </a:rPr>
              <a:t>ЗДРАВИ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sr-CS" sz="2800" spc="-1" strike="noStrike">
                <a:solidFill>
                  <a:srgbClr val="ff0000"/>
                </a:solidFill>
                <a:latin typeface="Times New Roman"/>
              </a:rPr>
              <a:t>СТАРИ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sr-CS" sz="2800" spc="-1" strike="noStrike">
                <a:solidFill>
                  <a:srgbClr val="ff0000"/>
                </a:solidFill>
                <a:latin typeface="Times New Roman"/>
              </a:rPr>
              <a:t>ТАМНОПУТИ ЉУДИ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sr-CS" sz="2800" spc="-1" strike="noStrike">
                <a:solidFill>
                  <a:srgbClr val="ff0000"/>
                </a:solidFill>
                <a:latin typeface="Times New Roman"/>
              </a:rPr>
              <a:t>ОТКРИВЕНИ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Times New Roman"/>
              </a:rPr>
              <a:t>ДЕЛОВИ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Times New Roman"/>
              </a:rPr>
              <a:t>Т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Times New Roman"/>
              </a:rPr>
              <a:t>СМАТРА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Times New Roman"/>
              </a:rPr>
              <a:t>СЕ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Times New Roman"/>
              </a:rPr>
              <a:t>ДА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Times New Roman"/>
              </a:rPr>
              <a:t>СУНЧАЊЕ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Times New Roman"/>
              </a:rPr>
              <a:t>ТРЕБА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Times New Roman"/>
              </a:rPr>
              <a:t>ПРЕКИНУТИ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Times New Roman"/>
              </a:rPr>
              <a:t>ЈЕДНОМ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Times New Roman"/>
              </a:rPr>
              <a:t>НЕДЕЉНО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Times New Roman"/>
              </a:rPr>
              <a:t>У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Times New Roman"/>
              </a:rPr>
              <a:t>ТРАЈАЊУ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Times New Roman"/>
              </a:rPr>
              <a:t>ОД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Times New Roman"/>
              </a:rPr>
              <a:t>ЈЕДНОГ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Times New Roman"/>
              </a:rPr>
              <a:t>ДАНА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3"/>
          <p:cNvSpPr/>
          <p:nvPr/>
        </p:nvSpPr>
        <p:spPr>
          <a:xfrm>
            <a:off x="762120" y="5335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ЈАЧАЊЕ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ОРГАНИЗМА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СУНЦ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xt Box 2"/>
          <p:cNvSpPr/>
          <p:nvPr/>
        </p:nvSpPr>
        <p:spPr>
          <a:xfrm>
            <a:off x="762120" y="1523880"/>
            <a:ext cx="7467480" cy="49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Вод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ј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средство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з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: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очувањ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личн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хигијен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јачањ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организм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Times New Roman"/>
              </a:rPr>
              <a:t>Вода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Times New Roman"/>
              </a:rPr>
              <a:t>има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Times New Roman"/>
              </a:rPr>
              <a:t>изразитије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Times New Roman"/>
              </a:rPr>
              <a:t>од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Times New Roman"/>
              </a:rPr>
              <a:t>ваздуха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Times New Roman"/>
              </a:rPr>
              <a:t>температурно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Times New Roman"/>
              </a:rPr>
              <a:t>дејство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н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стањ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кож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него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ваздух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ист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температур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топлотн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проводљивост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јој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ј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3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пут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већ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Times New Roman"/>
              </a:rPr>
              <a:t>механичко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Times New Roman"/>
              </a:rPr>
              <a:t>дејство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кој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долази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до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изражај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при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скакању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у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воду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пливањ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3"/>
          <p:cNvSpPr/>
          <p:nvPr/>
        </p:nvSpPr>
        <p:spPr>
          <a:xfrm>
            <a:off x="762120" y="5335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ЈАЧАЊЕ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ОРГАНИЗМА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ВО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Text Box 2"/>
          <p:cNvSpPr/>
          <p:nvPr/>
        </p:nvSpPr>
        <p:spPr>
          <a:xfrm>
            <a:off x="762120" y="1752480"/>
            <a:ext cx="7467480" cy="42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Подел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вод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у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односу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н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топлотно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дејство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хладн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до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16</a:t>
            </a:r>
            <a:r>
              <a:rPr b="1" lang="sr-Latn-CS" sz="2800" spc="-1" strike="noStrike" baseline="30000">
                <a:solidFill>
                  <a:srgbClr val="000066"/>
                </a:solidFill>
                <a:latin typeface="Times New Roman"/>
              </a:rPr>
              <a:t>0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С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прохладн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(16-24</a:t>
            </a:r>
            <a:r>
              <a:rPr b="1" lang="sr-Latn-CS" sz="2800" spc="-1" strike="noStrike" baseline="30000">
                <a:solidFill>
                  <a:srgbClr val="000066"/>
                </a:solidFill>
                <a:latin typeface="Times New Roman"/>
              </a:rPr>
              <a:t>0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С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млак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(24-32</a:t>
            </a:r>
            <a:r>
              <a:rPr b="1" lang="sr-Latn-CS" sz="2800" spc="-1" strike="noStrike" baseline="30000">
                <a:solidFill>
                  <a:srgbClr val="000066"/>
                </a:solidFill>
                <a:latin typeface="Times New Roman"/>
              </a:rPr>
              <a:t>0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С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топл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(32-40</a:t>
            </a:r>
            <a:r>
              <a:rPr b="1" lang="sr-Latn-CS" sz="2800" spc="-1" strike="noStrike" baseline="30000">
                <a:solidFill>
                  <a:srgbClr val="000066"/>
                </a:solidFill>
                <a:latin typeface="Times New Roman"/>
              </a:rPr>
              <a:t>0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С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врућ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преко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40</a:t>
            </a:r>
            <a:r>
              <a:rPr b="1" lang="sr-Latn-CS" sz="2800" spc="-1" strike="noStrike" baseline="30000">
                <a:solidFill>
                  <a:srgbClr val="000066"/>
                </a:solidFill>
                <a:latin typeface="Times New Roman"/>
              </a:rPr>
              <a:t>0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С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3"/>
          <p:cNvSpPr/>
          <p:nvPr/>
        </p:nvSpPr>
        <p:spPr>
          <a:xfrm>
            <a:off x="762120" y="5335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ЈАЧАЊЕ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ОРГАНИЗМА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ВО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 Box 2"/>
          <p:cNvSpPr/>
          <p:nvPr/>
        </p:nvSpPr>
        <p:spPr>
          <a:xfrm>
            <a:off x="762120" y="3017880"/>
            <a:ext cx="746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Times New Roman"/>
              </a:rPr>
              <a:t>У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ff0000"/>
                </a:solidFill>
                <a:latin typeface="Times New Roman"/>
              </a:rPr>
              <a:t>циљу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ff0000"/>
                </a:solidFill>
                <a:latin typeface="Times New Roman"/>
              </a:rPr>
              <a:t>јачања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ff0000"/>
                </a:solidFill>
                <a:latin typeface="Times New Roman"/>
              </a:rPr>
              <a:t>организма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ff0000"/>
                </a:solidFill>
                <a:latin typeface="Times New Roman"/>
              </a:rPr>
              <a:t>најкорисније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ff0000"/>
                </a:solidFill>
                <a:latin typeface="Times New Roman"/>
              </a:rPr>
              <a:t>су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ff0000"/>
                </a:solidFill>
                <a:latin typeface="Times New Roman"/>
              </a:rPr>
              <a:t>хладне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ff0000"/>
                </a:solidFill>
                <a:latin typeface="Times New Roman"/>
              </a:rPr>
              <a:t>прохладне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ff0000"/>
                </a:solidFill>
                <a:latin typeface="Times New Roman"/>
              </a:rPr>
              <a:t>воде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ff0000"/>
                </a:solidFill>
                <a:latin typeface="Times New Roman"/>
              </a:rPr>
              <a:t>краће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ff0000"/>
                </a:solidFill>
                <a:latin typeface="Times New Roman"/>
              </a:rPr>
              <a:t>процедуре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3"/>
          <p:cNvSpPr/>
          <p:nvPr/>
        </p:nvSpPr>
        <p:spPr>
          <a:xfrm>
            <a:off x="762120" y="5335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ЈАЧАЊЕ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ОРГАНИЗМА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ВО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2"/>
          <p:cNvSpPr/>
          <p:nvPr/>
        </p:nvSpPr>
        <p:spPr>
          <a:xfrm>
            <a:off x="762120" y="1600200"/>
            <a:ext cx="7467480" cy="41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Начини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апликациј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в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ТРЉА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ПОСИПА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ТУШИРА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КУПА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3"/>
          <p:cNvSpPr/>
          <p:nvPr/>
        </p:nvSpPr>
        <p:spPr>
          <a:xfrm>
            <a:off x="762120" y="5335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ЈАЧАЊЕ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ОРГАНИЗМА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ВО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Text Box 2"/>
          <p:cNvSpPr/>
          <p:nvPr/>
        </p:nvSpPr>
        <p:spPr>
          <a:xfrm>
            <a:off x="762120" y="1600200"/>
            <a:ext cx="746748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1.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ТРЉА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Млаком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водом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навлаженом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крпом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убрусом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или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сунђером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трљати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тело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почев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од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руку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ногу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.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Након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трљањ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осушити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сувим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убрусом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2.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ПОСИПА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Млаз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топл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вод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с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удаљености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од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8-10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цм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сипати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н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рамен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врат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прс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леђ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.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Температуру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вод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постепено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снижавати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.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Осушити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с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пешкиром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3"/>
          <p:cNvSpPr/>
          <p:nvPr/>
        </p:nvSpPr>
        <p:spPr>
          <a:xfrm>
            <a:off x="762120" y="5335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ЈАЧАЊЕ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ОРГАНИЗМА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ВО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Text Box 2"/>
          <p:cNvSpPr/>
          <p:nvPr/>
        </p:nvSpPr>
        <p:spPr>
          <a:xfrm>
            <a:off x="762120" y="1600200"/>
            <a:ext cx="7467480" cy="45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1.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ТУШИРА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Топлом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водом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с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удаљености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од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20-20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цм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туширати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с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.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Вод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из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туш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ј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под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притиском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од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2-4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атмосфер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.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Т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ј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појачано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механичко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дејство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вод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2.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КУПА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Им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изразито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позитивно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дејство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посебно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ако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с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вод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ваздух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покрећу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3"/>
          <p:cNvSpPr/>
          <p:nvPr/>
        </p:nvSpPr>
        <p:spPr>
          <a:xfrm>
            <a:off x="762120" y="5335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ЈАЧАЊЕ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ОРГАНИЗМА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ВО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 Box 2"/>
          <p:cNvSpPr/>
          <p:nvPr/>
        </p:nvSpPr>
        <p:spPr>
          <a:xfrm>
            <a:off x="762120" y="1600200"/>
            <a:ext cx="7467480" cy="50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Реакциј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организм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н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хладну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воду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најјач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ј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израђен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н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крвн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судов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кож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I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фаз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ужењ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крвних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удов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осећај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хладноћ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II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ф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ширењ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крвних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удов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ријаан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осећај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топло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III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ф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оновно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ужењ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крвних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удов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р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чему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кож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најеж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усн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омодр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уз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осећај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хладноћ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дрхтави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3"/>
          <p:cNvSpPr/>
          <p:nvPr/>
        </p:nvSpPr>
        <p:spPr>
          <a:xfrm>
            <a:off x="762120" y="5335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ЈАЧАЊЕ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ОРГАНИЗМА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ВО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ext Box 2"/>
          <p:cNvSpPr/>
          <p:nvPr/>
        </p:nvSpPr>
        <p:spPr>
          <a:xfrm>
            <a:off x="762120" y="1600200"/>
            <a:ext cx="7467480" cy="46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Препорук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з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јачањ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вод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Започет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лет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наставит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током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цел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годин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Најбољ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ј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оступак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проводит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ујутру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након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јутарњ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гимнастик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Температур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ваздух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треб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д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ј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кад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роцес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започињ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знад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20</a:t>
            </a:r>
            <a:r>
              <a:rPr b="1" lang="sr-Latn-CS" sz="2400" spc="-1" strike="noStrike" baseline="30000">
                <a:solidFill>
                  <a:srgbClr val="000066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релативн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влаг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40-80%,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брзин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трујањ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ваздух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мањ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0,5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3"/>
          <p:cNvSpPr/>
          <p:nvPr/>
        </p:nvSpPr>
        <p:spPr>
          <a:xfrm>
            <a:off x="762120" y="5335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ЈАЧАЊЕ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ОРГАНИЗМА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ВО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ХИГИЈЕНА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НАСЕЉА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br>
              <a:rPr sz="3200"/>
            </a:b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СТАНОВАЊ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762120" y="2649600"/>
            <a:ext cx="7010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рсте буке разликујемо прем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орекл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Трајању у време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Насеља</a:t>
            </a: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места</a:t>
            </a: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сталног</a:t>
            </a: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повременог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оравк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људ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јим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двиј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њихова производњ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 друг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латност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њихов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руштвен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 личн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живо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сеља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лимо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радска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рбана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) 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оск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урал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0" name="Picture 3" descr=""/>
          <p:cNvPicPr/>
          <p:nvPr/>
        </p:nvPicPr>
        <p:blipFill>
          <a:blip r:embed="rId1"/>
          <a:stretch/>
        </p:blipFill>
        <p:spPr>
          <a:xfrm>
            <a:off x="3929040" y="5143680"/>
            <a:ext cx="1838520" cy="134280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4" descr=""/>
          <p:cNvPicPr/>
          <p:nvPr/>
        </p:nvPicPr>
        <p:blipFill>
          <a:blip r:embed="rId2"/>
          <a:stretch/>
        </p:blipFill>
        <p:spPr>
          <a:xfrm>
            <a:off x="6215040" y="0"/>
            <a:ext cx="246708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д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градом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подразумевамо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веће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насеље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коме: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лавнина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ановништва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живи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ади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авећи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пољопривредни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латностим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венствен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ндустриј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авремени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радови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азликују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ложају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згледу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 функцијама и величин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3" name="Picture 2" descr=""/>
          <p:cNvPicPr/>
          <p:nvPr/>
        </p:nvPicPr>
        <p:blipFill>
          <a:blip r:embed="rId1"/>
          <a:stretch/>
        </p:blipFill>
        <p:spPr>
          <a:xfrm>
            <a:off x="5562720" y="260280"/>
            <a:ext cx="1989000" cy="12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гађење</a:t>
            </a: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животне</a:t>
            </a: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редине</a:t>
            </a: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стаје</a:t>
            </a: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ве</a:t>
            </a: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ећи</a:t>
            </a: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облем</a:t>
            </a: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 изградњ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радов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бог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исок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онцентрациј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људ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 њихових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активности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оје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требно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безбедити одговарајућ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физичк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квир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нфраструктур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облеми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ављају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спитиваним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пулацијама насељ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днос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ширењ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радског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кив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еко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љопривредног земљишт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еодговарајућ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локациј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лавних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ндустријских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он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едостатак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аобраћајних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обилазниц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ко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радов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лаба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омунална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премљеност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тд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Функци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сељ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квир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ме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врси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ог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делити 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колик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дцели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амбен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он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ндустријск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он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он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еленил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екреаци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он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аобраћај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централну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н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тд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.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6" name="Picture 3" descr=""/>
          <p:cNvPicPr/>
          <p:nvPr/>
        </p:nvPicPr>
        <p:blipFill>
          <a:blip r:embed="rId1"/>
          <a:stretch/>
        </p:blipFill>
        <p:spPr>
          <a:xfrm>
            <a:off x="6432480" y="3500280"/>
            <a:ext cx="20685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 txBox="1"/>
          <p:nvPr/>
        </p:nvSpPr>
        <p:spPr>
          <a:xfrm>
            <a:off x="323640" y="404640"/>
            <a:ext cx="858996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>
                <a:solidFill>
                  <a:srgbClr val="000000"/>
                </a:solidFill>
                <a:latin typeface="Calibri"/>
              </a:rPr>
              <a:t>Индустријска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3200" spc="-1" strike="noStrike">
                <a:solidFill>
                  <a:srgbClr val="000000"/>
                </a:solidFill>
                <a:latin typeface="Calibri"/>
              </a:rPr>
              <a:t>зо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вак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ндустриј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ор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ит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веза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обром саобраћајн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ез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авилн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функционисањ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ндустијск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о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бјеката неопходно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безбедити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икључке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нфраструктуру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овољн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личин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лектрич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нерги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ндустријск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он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авилу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двај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им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елени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асив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стављ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з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ета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зван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бодим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рад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циљ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штит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д аерозагађења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уке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8" name="Picture 2" descr=""/>
          <p:cNvPicPr/>
          <p:nvPr/>
        </p:nvPicPr>
        <p:blipFill>
          <a:blip r:embed="rId1"/>
          <a:stretch/>
        </p:blipFill>
        <p:spPr>
          <a:xfrm>
            <a:off x="6588000" y="189000"/>
            <a:ext cx="1809720" cy="12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 txBox="1"/>
          <p:nvPr/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000" spc="-1" strike="noStrike">
                <a:solidFill>
                  <a:srgbClr val="000000"/>
                </a:solidFill>
                <a:latin typeface="Calibri"/>
              </a:rPr>
              <a:t>Стамбена</a:t>
            </a: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3000" spc="-1" strike="noStrike">
                <a:solidFill>
                  <a:srgbClr val="000000"/>
                </a:solidFill>
                <a:latin typeface="Calibri"/>
              </a:rPr>
              <a:t>зон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о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функционална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целина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оју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чине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тамбене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единице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узим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јвећ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радск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ериторију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тамбе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единиц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рупиш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личност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адржај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вршин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број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тановник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азликуј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зивим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пр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стамбена јединица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микрорејон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суперблок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сновн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тамбен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единиц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тамбен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једниц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–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тамбено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дручје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граничено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лавним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аобраћајницама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њу чи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тамбе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град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атећ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бјект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портско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екреативн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ерени 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еле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врши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обраћајниц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нутар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в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рба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цели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тд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0" name="Picture 2" descr=""/>
          <p:cNvPicPr/>
          <p:nvPr/>
        </p:nvPicPr>
        <p:blipFill>
          <a:blip r:embed="rId1"/>
          <a:stretch/>
        </p:blipFill>
        <p:spPr>
          <a:xfrm>
            <a:off x="6516720" y="5229360"/>
            <a:ext cx="1987560" cy="13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00"/>
                </a:solidFill>
                <a:latin typeface="Calibri"/>
              </a:rPr>
              <a:t>Стамбена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4000" spc="-1" strike="noStrike">
                <a:solidFill>
                  <a:srgbClr val="000000"/>
                </a:solidFill>
                <a:latin typeface="Calibri"/>
              </a:rPr>
              <a:t>зон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збор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локациј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зградњ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тамбе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о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дразумев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благо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гнут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ерен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уж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рјентациј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обр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аобраћајн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везаност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близин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центр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рад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вољан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лажај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ем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ндустријској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он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близин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екреативних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елених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вршин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драве</a:t>
            </a: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слове</a:t>
            </a: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иродне</a:t>
            </a: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редине</a:t>
            </a: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3" name="Picture 2" descr=""/>
          <p:cNvPicPr/>
          <p:nvPr/>
        </p:nvPicPr>
        <p:blipFill>
          <a:blip r:embed="rId1"/>
          <a:stretch/>
        </p:blipFill>
        <p:spPr>
          <a:xfrm>
            <a:off x="6500880" y="108000"/>
            <a:ext cx="2214360" cy="16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00"/>
                </a:solidFill>
                <a:latin typeface="Calibri"/>
              </a:rPr>
              <a:t>Централна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4000" spc="-1" strike="noStrike">
                <a:solidFill>
                  <a:srgbClr val="000000"/>
                </a:solidFill>
                <a:latin typeface="Calibri"/>
              </a:rPr>
              <a:t>зон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авилу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купљ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из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адржај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словног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рговинско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ултурно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руштвено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гоститељско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јасн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финисан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цента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ек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ериферн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одиру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еплић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амбен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он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сновне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латности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радског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центра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реба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луже потребам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цело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сељ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6" name="Picture 2" descr=""/>
          <p:cNvPicPr/>
          <p:nvPr/>
        </p:nvPicPr>
        <p:blipFill>
          <a:blip r:embed="rId1"/>
          <a:stretch/>
        </p:blipFill>
        <p:spPr>
          <a:xfrm>
            <a:off x="6156360" y="214200"/>
            <a:ext cx="219060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400" spc="-1" strike="noStrike">
                <a:solidFill>
                  <a:srgbClr val="000000"/>
                </a:solidFill>
                <a:latin typeface="Calibri"/>
              </a:rPr>
              <a:t>Зона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4400" spc="-1" strike="noStrike">
                <a:solidFill>
                  <a:srgbClr val="000000"/>
                </a:solidFill>
                <a:latin typeface="Calibri"/>
              </a:rPr>
              <a:t>зеленила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4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4400" spc="-1" strike="noStrike">
                <a:solidFill>
                  <a:srgbClr val="000000"/>
                </a:solidFill>
                <a:latin typeface="Calibri"/>
              </a:rPr>
              <a:t>рекреац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ма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елики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анитарно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хигијенски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начај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хемијском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еханичком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ечишћавањ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аздух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егулисањ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емператур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елатив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лажност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аздух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мањује</a:t>
            </a: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адијацију</a:t>
            </a: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буку</a:t>
            </a: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аерозагађење</a:t>
            </a: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тиче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егенерацију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ида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зазив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ијатно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сихичко стањ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од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човек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естетском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мисл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9" name="Picture 2" descr=""/>
          <p:cNvPicPr/>
          <p:nvPr/>
        </p:nvPicPr>
        <p:blipFill>
          <a:blip r:embed="rId1"/>
          <a:stretch/>
        </p:blipFill>
        <p:spPr>
          <a:xfrm>
            <a:off x="6732720" y="5373720"/>
            <a:ext cx="165564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00"/>
                </a:solidFill>
                <a:latin typeface="Calibri"/>
              </a:rPr>
              <a:t>Зона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4000" spc="-1" strike="noStrike">
                <a:solidFill>
                  <a:srgbClr val="000000"/>
                </a:solidFill>
                <a:latin typeface="Calibri"/>
              </a:rPr>
              <a:t>зеленила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4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4000" spc="-1" strike="noStrike">
                <a:solidFill>
                  <a:srgbClr val="000000"/>
                </a:solidFill>
                <a:latin typeface="Calibri"/>
              </a:rPr>
              <a:t>рекреациј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ја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штитно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еленил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бавезн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стављ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з саобраћајнице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ко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ндустријских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мплекс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сталих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гађивач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пут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пониј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мунално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пасно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тпад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2" name="Picture 2" descr=""/>
          <p:cNvPicPr/>
          <p:nvPr/>
        </p:nvPicPr>
        <p:blipFill>
          <a:blip r:embed="rId1"/>
          <a:stretch/>
        </p:blipFill>
        <p:spPr>
          <a:xfrm>
            <a:off x="5019840" y="4149720"/>
            <a:ext cx="223812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762120" y="2619360"/>
            <a:ext cx="7696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ема пореклу разликују се две врсте бук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. Бука природних изв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б. Бука онога што је човек створи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762120" y="727200"/>
            <a:ext cx="755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ВРСТЕ БУКЕ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ема порекл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00"/>
                </a:solidFill>
                <a:latin typeface="Calibri"/>
              </a:rPr>
              <a:t>Зона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4000" spc="-1" strike="noStrike">
                <a:solidFill>
                  <a:srgbClr val="000000"/>
                </a:solidFill>
                <a:latin typeface="Calibri"/>
              </a:rPr>
              <a:t>зеленила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4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4000" spc="-1" strike="noStrike">
                <a:solidFill>
                  <a:srgbClr val="000000"/>
                </a:solidFill>
                <a:latin typeface="Calibri"/>
              </a:rPr>
              <a:t>рекреациј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428760" y="1643040"/>
            <a:ext cx="846432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портск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ерен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бјект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реб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обро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сунчан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описно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ријентисани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обром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истему водоснабдевањ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даљен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звор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гадјењ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иш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иво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валитет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лободних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екреативних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остор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емор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дразумев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ећ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вантитативн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ступљеност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ећ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склађивањ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пецифичностим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онкрет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рба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реди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требам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орисник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радитељском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радицијом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енденцијам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азвој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реди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5" name="Picture 2" descr=""/>
          <p:cNvPicPr/>
          <p:nvPr/>
        </p:nvPicPr>
        <p:blipFill>
          <a:blip r:embed="rId1"/>
          <a:stretch/>
        </p:blipFill>
        <p:spPr>
          <a:xfrm>
            <a:off x="6715080" y="171360"/>
            <a:ext cx="1928880" cy="15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Значај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здравог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станова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ановањ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довољав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једн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сновн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људск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треб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треб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пстанк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физичк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штит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игурношћ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стовремен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ановањ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могућав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довољавањ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ногих друг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човеков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сихолошк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оцијалн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кономск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ултурн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треб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7" name="Picture 2" descr=""/>
          <p:cNvPicPr/>
          <p:nvPr/>
        </p:nvPicPr>
        <p:blipFill>
          <a:blip r:embed="rId1"/>
          <a:stretch/>
        </p:blipFill>
        <p:spPr>
          <a:xfrm>
            <a:off x="5572080" y="214200"/>
            <a:ext cx="223848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Значај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здравог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станова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ан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длику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в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еом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аж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војств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рхитектонск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дразумев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еличин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премљенос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 функционалнос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а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рбанистичка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лизи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екреативн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елен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врши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оступност садржај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вакоденев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треб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колошк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нфо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9" name="Picture 2" descr=""/>
          <p:cNvPicPr/>
          <p:nvPr/>
        </p:nvPicPr>
        <p:blipFill>
          <a:blip r:embed="rId1"/>
          <a:stretch/>
        </p:blipFill>
        <p:spPr>
          <a:xfrm>
            <a:off x="5929200" y="0"/>
            <a:ext cx="2786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Значај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здравог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становањ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5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500" spc="-1" strike="noStrike">
                <a:solidFill>
                  <a:srgbClr val="000000"/>
                </a:solidFill>
                <a:latin typeface="Calibri"/>
              </a:rPr>
              <a:t>квалитетно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500" spc="-1" strike="noStrike">
                <a:solidFill>
                  <a:srgbClr val="000000"/>
                </a:solidFill>
                <a:latin typeface="Calibri"/>
              </a:rPr>
              <a:t>становање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500" spc="-1" strike="noStrike">
                <a:solidFill>
                  <a:srgbClr val="000000"/>
                </a:solidFill>
                <a:latin typeface="Calibri"/>
              </a:rPr>
              <a:t>постаје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500" spc="-1" strike="noStrike">
                <a:solidFill>
                  <a:srgbClr val="000000"/>
                </a:solidFill>
                <a:latin typeface="Calibri"/>
              </a:rPr>
              <a:t>временом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500" spc="-1" strike="noStrike">
                <a:solidFill>
                  <a:srgbClr val="000000"/>
                </a:solidFill>
                <a:latin typeface="Calibri"/>
              </a:rPr>
              <a:t>битан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морбогени</a:t>
            </a:r>
            <a:r>
              <a:rPr b="0" lang="pl-PL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фактор</a:t>
            </a:r>
            <a:r>
              <a:rPr b="0" lang="pl-PL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pl-PL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настанак</a:t>
            </a:r>
            <a:r>
              <a:rPr b="0" lang="pl-PL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инфекција</a:t>
            </a:r>
            <a:r>
              <a:rPr b="0" lang="pl-PL" sz="2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повређивања</a:t>
            </a:r>
            <a:r>
              <a:rPr b="0" lang="pl-PL" sz="25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тровања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алергија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Осим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тога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квалитетно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становање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повлачи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собом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следеће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проблеме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одсуство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разноврсности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урбаних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садржаја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висок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степен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зависности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аутомобила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употреба</a:t>
            </a:r>
            <a:r>
              <a:rPr b="0" lang="vi-VN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штетних</a:t>
            </a:r>
            <a:r>
              <a:rPr b="0" lang="vi-VN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неодрживих</a:t>
            </a:r>
            <a:r>
              <a:rPr b="0" lang="vi-VN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грађевинских</a:t>
            </a:r>
            <a:r>
              <a:rPr b="0" lang="vi-VN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материјала</a:t>
            </a:r>
            <a:r>
              <a:rPr b="0" lang="vi-VN" sz="25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низак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степен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одржавања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оштећења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конструкције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велику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потрошњу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енергиј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Микроклиматски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услови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стану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птималн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икроклиматск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слов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амбено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стор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зависни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пољашњих параметар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авилни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збор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рејн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ентилацион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истема постиж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дговарајућ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емператур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лажност ваздух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сторијам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овољн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личина свеже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аздух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4" name="Picture 2" descr=""/>
          <p:cNvPicPr/>
          <p:nvPr/>
        </p:nvPicPr>
        <p:blipFill>
          <a:blip r:embed="rId1"/>
          <a:stretch/>
        </p:blipFill>
        <p:spPr>
          <a:xfrm>
            <a:off x="7045200" y="836640"/>
            <a:ext cx="1695600" cy="13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Микроклиматски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услови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стану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ентилација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ановима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рши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нфилтрацијом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иродном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 механичк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ентилациј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ад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веден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иво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еом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иск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емал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вежег ваздух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лази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нутрашњи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стор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е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гађивачи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 зград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ог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кумулирај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иво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ож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а узроку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дравстве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блем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7" name="Picture 2" descr=""/>
          <p:cNvPicPr/>
          <p:nvPr/>
        </p:nvPicPr>
        <p:blipFill>
          <a:blip r:embed="rId1"/>
          <a:stretch/>
        </p:blipFill>
        <p:spPr>
          <a:xfrm>
            <a:off x="7236000" y="836640"/>
            <a:ext cx="157464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Микроклиматски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услови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стану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457200" y="2071800"/>
            <a:ext cx="822960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ешењ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блем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валитет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аздух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 становим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ућам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кључуј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акве акције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што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лиминациј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нтрола извора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гађења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већана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ентилација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 постављање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ређаја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ечишћавањеваздух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0" name="Picture 2" descr=""/>
          <p:cNvPicPr/>
          <p:nvPr/>
        </p:nvPicPr>
        <p:blipFill>
          <a:blip r:embed="rId1"/>
          <a:stretch/>
        </p:blipFill>
        <p:spPr>
          <a:xfrm>
            <a:off x="7524720" y="765000"/>
            <a:ext cx="1258920" cy="13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Осветљавање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стамбених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просториј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невним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ветлом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треба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безбеђује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комфорније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квалитетније освјетљењ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ног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з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вештачких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звор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Такв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ракс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мањуј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отребу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електричним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зворим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ветлости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т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тог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води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мањењу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отрошњ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електричн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енергиј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њом повезаних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трошкова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загађења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обро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ројектованим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истемом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невног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светљењ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збегавају с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рекомерни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јај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контраст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могу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штет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вид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3" name="Picture 2" descr=""/>
          <p:cNvPicPr/>
          <p:nvPr/>
        </p:nvPicPr>
        <p:blipFill>
          <a:blip r:embed="rId1"/>
          <a:stretch/>
        </p:blipFill>
        <p:spPr>
          <a:xfrm>
            <a:off x="5940360" y="5300640"/>
            <a:ext cx="1332000" cy="9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Градевински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материјали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згра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дабирањ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еколошк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ихватљивијих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атеријал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едан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чина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бољшање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еколошки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арактеристик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град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драв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атеријал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рушавај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животн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редин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мај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еом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вољан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енергетск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биланс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емитују никакв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штетн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рачењ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ог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буду веома</a:t>
            </a: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рајни</a:t>
            </a: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треби мењај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6" name="Picture 2" descr=""/>
          <p:cNvPicPr/>
          <p:nvPr/>
        </p:nvPicPr>
        <p:blipFill>
          <a:blip r:embed="rId1"/>
          <a:stretch/>
        </p:blipFill>
        <p:spPr>
          <a:xfrm>
            <a:off x="7380360" y="3068640"/>
            <a:ext cx="149544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Синдром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болесне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зграде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”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i="1" lang="sr-CS" sz="4000" spc="-1" strike="noStrike">
                <a:solidFill>
                  <a:srgbClr val="000000"/>
                </a:solidFill>
                <a:latin typeface="Calibri"/>
              </a:rPr>
              <a:t> Sick building s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1" i="1" lang="sr-CS" sz="4000" spc="-1" strike="noStrike">
                <a:solidFill>
                  <a:srgbClr val="000000"/>
                </a:solidFill>
                <a:latin typeface="Calibri"/>
              </a:rPr>
              <a:t>ndrome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i="1" lang="sr-CS" sz="4000" spc="-1" strike="noStrike">
                <a:solidFill>
                  <a:srgbClr val="000000"/>
                </a:solidFill>
                <a:latin typeface="Calibri"/>
              </a:rPr>
              <a:t>SBS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)-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Група</a:t>
            </a:r>
            <a:r>
              <a:rPr b="0" lang="pl-PL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имптома</a:t>
            </a:r>
            <a:r>
              <a:rPr b="0" lang="pl-PL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непознатог</a:t>
            </a:r>
            <a:r>
              <a:rPr b="0" lang="pl-PL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орекла</a:t>
            </a:r>
            <a:r>
              <a:rPr b="0" lang="pl-PL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који с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јављају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услед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ужег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боравк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затвореној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росторији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кућ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радно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место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школ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болниц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.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1984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ветск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здравствен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рганизациј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НО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ријавил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700" spc="-1" strike="noStrike">
                <a:solidFill>
                  <a:srgbClr val="000000"/>
                </a:solidFill>
                <a:latin typeface="Calibri"/>
              </a:rPr>
              <a:t>SB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700" spc="-1" strike="noStrike">
                <a:solidFill>
                  <a:srgbClr val="000000"/>
                </a:solidFill>
                <a:latin typeface="Calibri"/>
              </a:rPr>
              <a:t>SBS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углавном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овезан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лошим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квалитетом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ваздух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затвореним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росторијам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енгл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i="1" lang="sr-CS" sz="2700" spc="-1" strike="noStrike">
                <a:solidFill>
                  <a:srgbClr val="000000"/>
                </a:solidFill>
                <a:latin typeface="Calibri"/>
              </a:rPr>
              <a:t>indoor air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 q</a:t>
            </a:r>
            <a:r>
              <a:rPr b="0" i="1" lang="sr-CS" sz="2700" spc="-1" strike="noStrike">
                <a:solidFill>
                  <a:srgbClr val="000000"/>
                </a:solidFill>
                <a:latin typeface="Calibri"/>
              </a:rPr>
              <a:t>ualit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руги</a:t>
            </a:r>
            <a:r>
              <a:rPr b="0" lang="pl-PL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термин</a:t>
            </a:r>
            <a:r>
              <a:rPr b="0" lang="pl-PL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pl-PL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pl-PL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користи</a:t>
            </a:r>
            <a:r>
              <a:rPr b="0" lang="pl-PL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pl-PL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вету</a:t>
            </a:r>
            <a:r>
              <a:rPr b="0" lang="pl-PL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pl-PL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SBS</a:t>
            </a:r>
            <a:r>
              <a:rPr b="0" i="1" lang="sr-CS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700" spc="-1" strike="noStrike">
                <a:solidFill>
                  <a:srgbClr val="000000"/>
                </a:solidFill>
                <a:latin typeface="Calibri"/>
              </a:rPr>
              <a:t>Building related illnesses associated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 w</a:t>
            </a:r>
            <a:r>
              <a:rPr b="0" i="1" lang="sr-CS" sz="2700" spc="-1" strike="noStrike">
                <a:solidFill>
                  <a:srgbClr val="000000"/>
                </a:solidFill>
                <a:latin typeface="Calibri"/>
              </a:rPr>
              <a:t>ith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700" spc="-1" strike="noStrike">
                <a:solidFill>
                  <a:srgbClr val="000000"/>
                </a:solidFill>
                <a:latin typeface="Calibri"/>
              </a:rPr>
              <a:t>mould e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sr-CS" sz="2700" spc="-1" strike="noStrike">
                <a:solidFill>
                  <a:srgbClr val="000000"/>
                </a:solidFill>
                <a:latin typeface="Calibri"/>
              </a:rPr>
              <a:t>posur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9" name="Picture 2" descr=""/>
          <p:cNvPicPr/>
          <p:nvPr/>
        </p:nvPicPr>
        <p:blipFill>
          <a:blip r:embed="rId1"/>
          <a:stretch/>
        </p:blipFill>
        <p:spPr>
          <a:xfrm>
            <a:off x="7242120" y="2571840"/>
            <a:ext cx="18576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755640" y="549360"/>
            <a:ext cx="80010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а. Бука природних изв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иродни извори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грмљавина, завијање ветра и д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) могу да изазову веома јаку и непријатну буку, али се све мање сматрају узроцима оштећења здравља људ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б. Бука онога што је човек створи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Разликује се у односу на место на којем делује 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nl-NL" sz="2000" spc="-1" strike="noStrike">
                <a:solidFill>
                  <a:srgbClr val="000000"/>
                </a:solidFill>
                <a:latin typeface="Times New Roman"/>
              </a:rPr>
              <a:t>Буку у радној средини</a:t>
            </a: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  је сваки звук створен радом машине, алата и/или уређаја у производњи (бука оруђа на радном месту, оруђа са других радних места, непроизводних извора: саобраћај, вентилација и др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nl-NL" sz="2000" spc="-1" strike="noStrike">
                <a:solidFill>
                  <a:srgbClr val="000000"/>
                </a:solidFill>
                <a:latin typeface="Times New Roman"/>
              </a:rPr>
              <a:t>Буку у животној средини</a:t>
            </a: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 је сваки звук који настаје ван радног места, што значи у становима, на улици, на местима за рекреацију, у школама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 txBox="1"/>
          <p:nvPr/>
        </p:nvSpPr>
        <p:spPr>
          <a:xfrm>
            <a:off x="45720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Синтетичка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изолациј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5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Клима</a:t>
            </a:r>
            <a:r>
              <a:rPr b="0" lang="vi-VN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уређаји</a:t>
            </a:r>
            <a:r>
              <a:rPr b="0" lang="vi-VN" sz="25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вентилацион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систем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Недостатак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свежег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ваздух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Дим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испаравање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бој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грињ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теписи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тапет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кућни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љубимц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Токсичне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хемикалије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чишћењ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Природни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гас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C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5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грађевински</a:t>
            </a:r>
            <a:r>
              <a:rPr b="0" lang="vi-VN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материјал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бактерије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WC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шољ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купатило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зидови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рамови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прозор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Токсичне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бој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Угљен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моноксид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уља</a:t>
            </a: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гасови</a:t>
            </a: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из</a:t>
            </a: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аутомобил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1" name="Picture 3" descr=""/>
          <p:cNvPicPr/>
          <p:nvPr/>
        </p:nvPicPr>
        <p:blipFill>
          <a:blip r:embed="rId1"/>
          <a:stretch/>
        </p:blipFill>
        <p:spPr>
          <a:xfrm>
            <a:off x="5500800" y="285840"/>
            <a:ext cx="33382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Picture 2" descr=""/>
          <p:cNvPicPr/>
          <p:nvPr/>
        </p:nvPicPr>
        <p:blipFill>
          <a:blip r:embed="rId1"/>
          <a:stretch/>
        </p:blipFill>
        <p:spPr>
          <a:xfrm>
            <a:off x="1643040" y="1214280"/>
            <a:ext cx="59292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Може</a:t>
            </a:r>
            <a:r>
              <a:rPr b="1" lang="it-IT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ли</a:t>
            </a:r>
            <a:r>
              <a:rPr b="1" lang="it-IT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зграда</a:t>
            </a:r>
            <a:r>
              <a:rPr b="1" lang="it-IT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бити</a:t>
            </a:r>
            <a:r>
              <a:rPr b="1" lang="it-IT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болесна</a:t>
            </a:r>
            <a:r>
              <a:rPr b="1" lang="it-IT" sz="4000" spc="-1" strike="noStrike">
                <a:solidFill>
                  <a:srgbClr val="000000"/>
                </a:solidFill>
                <a:latin typeface="Calibri"/>
              </a:rPr>
              <a:t>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179280" y="160020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дравствени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облеми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ављају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везаности</a:t>
            </a: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боравком</a:t>
            </a: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дређеној</a:t>
            </a: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гради</a:t>
            </a: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Због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неприкладно</a:t>
            </a:r>
            <a:r>
              <a:rPr b="1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грађене</a:t>
            </a:r>
            <a:r>
              <a:rPr b="1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1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неадекватно-лоше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одржаване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зграде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Посебан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проблем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словне зград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војом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"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твореном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"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икроклимом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зроци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ису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амо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рађевински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архитектонски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ећ</a:t>
            </a:r>
            <a:r>
              <a:rPr b="0" lang="sv-SE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стају</a:t>
            </a:r>
            <a:r>
              <a:rPr b="0" lang="sv-SE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v-SE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sv-SE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следица</a:t>
            </a:r>
            <a:r>
              <a:rPr b="0" lang="sv-SE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лоших</a:t>
            </a:r>
            <a:r>
              <a:rPr b="0" lang="sv-SE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ергономски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ставки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сто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ако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лоше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рганизације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ада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Штетни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фактори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болесне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зград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457200" y="1600200"/>
            <a:ext cx="8362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Физички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лош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квалитет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ваздуха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осветљеност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бука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одлагање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отпада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и снабдевање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квалитетном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пијаћом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водом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Хемијски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повишене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концентрације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угљен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диоксида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боје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теписи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завесе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природних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материјала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због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задржавања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алергена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формалдехиди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рад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sr-Latn-C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фотокопирним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апаратом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Биолошки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микроорганизми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преко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лоше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одржаваних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клима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уређаја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).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Осим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изазивања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заразних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болести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што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Легионарска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болест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узрочник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sr-Latn-C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бактерија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Legionella pneumophila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ови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микроорганизми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погодују</a:t>
            </a:r>
            <a:r>
              <a:rPr b="0" lang="sr-Latn-C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развоју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алергијских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реакција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Психолошки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утицај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"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болесне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зграде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"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ментални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склоп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најизразитије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се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огледа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главобоља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раздражљивост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умор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смањена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продуктивност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безвољност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Ови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поремећаји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одраз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деловања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свих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пре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набројаних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фактора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организам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јер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тело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психа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чврсто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повезани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Лечењ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457200" y="121392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клањањ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мањењ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егоб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запослених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болесној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зград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ож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стић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лечење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егоб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већ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омено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зград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ој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зазив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егоб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било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пресељењем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другу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зграду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побољшањем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услов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рад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"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болесној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"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слов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рад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ог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правит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бољшње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валитет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ваздух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вођењем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иродне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валитетније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светљености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збацивањем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еонског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ветл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мањење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ив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бук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авилни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длагањем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тпада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авилном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схраном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радника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сигурањем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годне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радне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тмосфер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клањање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штетних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хемијских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фактор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авилним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државање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вег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ог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ак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б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ошл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икробиолошког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загађења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9" name="Picture 2" descr=""/>
          <p:cNvPicPr/>
          <p:nvPr/>
        </p:nvPicPr>
        <p:blipFill>
          <a:blip r:embed="rId1"/>
          <a:stretch/>
        </p:blipFill>
        <p:spPr>
          <a:xfrm>
            <a:off x="2071800" y="0"/>
            <a:ext cx="10000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Превенциј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индром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болесн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зград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мож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пречити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равилним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ројектовањем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зградњом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државањем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ословних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тамбених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зграда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сто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тако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редовним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истематским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регледим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вих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запослених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како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би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врем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уочил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епидемиј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вог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индром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ако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ниј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хитно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нити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мртоносно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тањ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индром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болесн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зград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умањуј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квалитет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човеков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живот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угорочно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узрокуј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знатн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губитк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како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раднику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тако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ослодавцу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због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мањен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родуктивности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оштовањ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ергономских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равил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pl-PL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раду</a:t>
            </a:r>
            <a:r>
              <a:rPr b="0" lang="pl-PL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такође</a:t>
            </a:r>
            <a:r>
              <a:rPr b="0" lang="pl-PL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pl-PL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неопходно</a:t>
            </a:r>
            <a:r>
              <a:rPr b="0" lang="pl-PL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2" name="Picture 2" descr=""/>
          <p:cNvPicPr/>
          <p:nvPr/>
        </p:nvPicPr>
        <p:blipFill>
          <a:blip r:embed="rId1"/>
          <a:stretch/>
        </p:blipFill>
        <p:spPr>
          <a:xfrm>
            <a:off x="4143240" y="0"/>
            <a:ext cx="185292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762120" y="72720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ВРСТЕ БУКЕ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ема трајању у време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762120" y="1752480"/>
            <a:ext cx="8381880" cy="49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ема трајању у времену разликујемо пет врста бук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тална (континуирана) бу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роменљива (дисконтинуирана) бу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Импулсивна бук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1" i="1" lang="da-DK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i="1" lang="da-DK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da-DK" sz="2800" spc="-1" strike="noStrike">
                <a:solidFill>
                  <a:srgbClr val="000000"/>
                </a:solidFill>
                <a:latin typeface="Times New Roman"/>
              </a:rPr>
              <a:t>Бука са тонов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1" i="1" lang="da-DK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i="1" lang="da-DK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da-DK" sz="2800" spc="-1" strike="noStrike">
                <a:solidFill>
                  <a:srgbClr val="000000"/>
                </a:solidFill>
                <a:latin typeface="Times New Roman"/>
              </a:rPr>
              <a:t>Испрекидана бука (појединачни звуци или шумов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179280" y="115920"/>
            <a:ext cx="8535960" cy="63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Стална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континуирана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) бука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је бука чији се ниво мења у границама од највише 5 дБ(А), при чему се за измерени ниво буке узима просечни ниво у току мерног интерв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Променљива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дисконтинуирана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) бук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је бука чији се ниво непрекидно мења у границама већим од 5дБ(А), а не подлеже дефиницији испрекидане бу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Импулсивна бук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је бука која садржи чујне импулсе краће од 1 секунде, који се јављају појединачно или брзо следе један за другим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може бити сталног или променљивог ниво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1" i="1" lang="da-D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i="1" lang="sr-CS" sz="2400" spc="-1" strike="noStrike">
                <a:solidFill>
                  <a:srgbClr val="000000"/>
                </a:solidFill>
                <a:latin typeface="Times New Roman"/>
              </a:rPr>
              <a:t>Бука</a:t>
            </a:r>
            <a:r>
              <a:rPr b="1" i="1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r-CS" sz="2400" spc="-1" strike="noStrike">
                <a:solidFill>
                  <a:srgbClr val="000000"/>
                </a:solidFill>
                <a:latin typeface="Times New Roman"/>
              </a:rPr>
              <a:t>са</a:t>
            </a:r>
            <a:r>
              <a:rPr b="1" i="1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r-CS" sz="2400" spc="-1" strike="noStrike">
                <a:solidFill>
                  <a:srgbClr val="000000"/>
                </a:solidFill>
                <a:latin typeface="Times New Roman"/>
              </a:rPr>
              <a:t>тоновима</a:t>
            </a:r>
            <a:r>
              <a:rPr b="1" lang="da-DK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1" lang="da-DK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бука</a:t>
            </a:r>
            <a:r>
              <a:rPr b="1" lang="da-DK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која</a:t>
            </a:r>
            <a:r>
              <a:rPr b="1" lang="da-DK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садржи</a:t>
            </a:r>
            <a:r>
              <a:rPr b="1" lang="da-DK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чујне</a:t>
            </a:r>
            <a:r>
              <a:rPr b="1" lang="da-DK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тонске</a:t>
            </a:r>
            <a:r>
              <a:rPr b="1" lang="da-DK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компоненте</a:t>
            </a:r>
            <a:r>
              <a:rPr b="1" lang="da-DK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1" i="1" lang="da-D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i="1" lang="da-DK" sz="2400" spc="-1" strike="noStrike">
                <a:solidFill>
                  <a:srgbClr val="000000"/>
                </a:solidFill>
                <a:latin typeface="Times New Roman"/>
              </a:rPr>
              <a:t>Испрекидана бука (</a:t>
            </a:r>
            <a:r>
              <a:rPr b="0" i="1" lang="da-DK" sz="2400" spc="-1" strike="noStrike">
                <a:solidFill>
                  <a:srgbClr val="000000"/>
                </a:solidFill>
                <a:latin typeface="Times New Roman"/>
              </a:rPr>
              <a:t>појединачни звуци или шумови</a:t>
            </a:r>
            <a:r>
              <a:rPr b="1" i="1" lang="da-DK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a-DK" sz="2000" spc="-1" strike="noStrike">
                <a:solidFill>
                  <a:srgbClr val="000000"/>
                </a:solidFill>
                <a:latin typeface="Times New Roman"/>
              </a:rPr>
              <a:t>је бука чији ниво повремено нагло пада на ниво буке околине, при чему је трајање ове буке између прекида веће од 1 секун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762120" y="72720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УТИЦАЈ БУКЕ НА Ч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826920" y="2168640"/>
            <a:ext cx="7490160" cy="47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Бука може делова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1. Повреме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Овај утицај најчешће узрокује физиолошке реакције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организма, осим ако је реч о буци врло велике јачи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2. Стал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Ова бука може првобитне физиолошке реакције да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претвори у трајне патолошке промене које временом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напредуј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По правилу и почетном стадијуму промене су лаке, једва приметне, губе се после престанка деловања буке и не скрећу пажњу на себ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762120" y="72720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УТИЦАЈ БУКЕ НА Ч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762120" y="2116080"/>
            <a:ext cx="8001000" cy="44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ема утицају на људски организам бука се најчешће класификује на звук који изазив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лушна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аурикуларне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) оштећ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анслушна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екстрааурикуларне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) оштећења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685800" y="2146320"/>
            <a:ext cx="76201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ука је сваки нежељени зву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ваки звук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галама, говор, лупа и др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који омета рад или одмор довољно је јак, издваја се од осталих звукова и добро се чује, је бу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уку могу да чине и тихи звуци под одређеним условима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разговор гледалаца у позоришној сали за време представ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685800" y="71604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БУКА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ДЕФИНИЦ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762120" y="72720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УТИЦАЈ БУКЕ НА Ч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3"/>
          <p:cNvGrpSpPr/>
          <p:nvPr/>
        </p:nvGrpSpPr>
        <p:grpSpPr>
          <a:xfrm>
            <a:off x="250920" y="1700280"/>
            <a:ext cx="8641800" cy="4755600"/>
            <a:chOff x="250920" y="1700280"/>
            <a:chExt cx="8641800" cy="4755600"/>
          </a:xfrm>
        </p:grpSpPr>
        <p:sp>
          <p:nvSpPr>
            <p:cNvPr id="75" name="Freeform 4"/>
            <p:cNvSpPr/>
            <p:nvPr/>
          </p:nvSpPr>
          <p:spPr>
            <a:xfrm>
              <a:off x="3681000" y="1724400"/>
              <a:ext cx="2031480" cy="4731480"/>
            </a:xfrm>
            <a:prstGeom prst="pie">
              <a:avLst/>
            </a:prstGeom>
            <a:solidFill>
              <a:srgbClr val="eeece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5"/>
            <p:cNvSpPr/>
            <p:nvPr/>
          </p:nvSpPr>
          <p:spPr>
            <a:xfrm>
              <a:off x="6258240" y="2667960"/>
              <a:ext cx="26344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Times New Roman"/>
                </a:rPr>
                <a:t>КАРДИВАСКУЛАРНИ ПОРЕМЕЋАЈ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6"/>
            <p:cNvSpPr/>
            <p:nvPr/>
          </p:nvSpPr>
          <p:spPr>
            <a:xfrm>
              <a:off x="4473720" y="3400200"/>
              <a:ext cx="3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7"/>
            <p:cNvSpPr/>
            <p:nvPr/>
          </p:nvSpPr>
          <p:spPr>
            <a:xfrm>
              <a:off x="5113080" y="2746440"/>
              <a:ext cx="3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8"/>
            <p:cNvSpPr/>
            <p:nvPr/>
          </p:nvSpPr>
          <p:spPr>
            <a:xfrm>
              <a:off x="5045040" y="3111840"/>
              <a:ext cx="144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9"/>
            <p:cNvSpPr/>
            <p:nvPr/>
          </p:nvSpPr>
          <p:spPr>
            <a:xfrm>
              <a:off x="4818240" y="2621880"/>
              <a:ext cx="3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10"/>
            <p:cNvSpPr/>
            <p:nvPr/>
          </p:nvSpPr>
          <p:spPr>
            <a:xfrm>
              <a:off x="4473720" y="3233520"/>
              <a:ext cx="360" cy="4428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11"/>
            <p:cNvSpPr/>
            <p:nvPr/>
          </p:nvSpPr>
          <p:spPr>
            <a:xfrm>
              <a:off x="4473720" y="3218400"/>
              <a:ext cx="360" cy="2880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12"/>
            <p:cNvSpPr/>
            <p:nvPr/>
          </p:nvSpPr>
          <p:spPr>
            <a:xfrm>
              <a:off x="4426200" y="6283440"/>
              <a:ext cx="144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13"/>
            <p:cNvSpPr/>
            <p:nvPr/>
          </p:nvSpPr>
          <p:spPr>
            <a:xfrm>
              <a:off x="4486320" y="6191280"/>
              <a:ext cx="180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14"/>
            <p:cNvSpPr/>
            <p:nvPr/>
          </p:nvSpPr>
          <p:spPr>
            <a:xfrm>
              <a:off x="4486320" y="6092640"/>
              <a:ext cx="3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15"/>
            <p:cNvSpPr/>
            <p:nvPr/>
          </p:nvSpPr>
          <p:spPr>
            <a:xfrm>
              <a:off x="4472280" y="6225120"/>
              <a:ext cx="48960" cy="8604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16"/>
            <p:cNvSpPr/>
            <p:nvPr/>
          </p:nvSpPr>
          <p:spPr>
            <a:xfrm>
              <a:off x="4448160" y="6297480"/>
              <a:ext cx="42840" cy="3996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17"/>
            <p:cNvSpPr/>
            <p:nvPr/>
          </p:nvSpPr>
          <p:spPr>
            <a:xfrm>
              <a:off x="4239360" y="2996280"/>
              <a:ext cx="132120" cy="614520"/>
            </a:xfrm>
            <a:prstGeom prst="pie">
              <a:avLst/>
            </a:prstGeom>
            <a:solidFill>
              <a:srgbClr val="eeece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18"/>
            <p:cNvSpPr/>
            <p:nvPr/>
          </p:nvSpPr>
          <p:spPr>
            <a:xfrm>
              <a:off x="5045040" y="2968560"/>
              <a:ext cx="132120" cy="593280"/>
            </a:xfrm>
            <a:prstGeom prst="pie">
              <a:avLst/>
            </a:prstGeom>
            <a:solidFill>
              <a:srgbClr val="eeece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9"/>
            <p:cNvSpPr/>
            <p:nvPr/>
          </p:nvSpPr>
          <p:spPr>
            <a:xfrm>
              <a:off x="4196520" y="2939040"/>
              <a:ext cx="149400" cy="506880"/>
            </a:xfrm>
            <a:prstGeom prst="pie">
              <a:avLst/>
            </a:prstGeom>
            <a:solidFill>
              <a:srgbClr val="eeec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20"/>
            <p:cNvSpPr/>
            <p:nvPr/>
          </p:nvSpPr>
          <p:spPr>
            <a:xfrm>
              <a:off x="5078160" y="2934360"/>
              <a:ext cx="147960" cy="543960"/>
            </a:xfrm>
            <a:prstGeom prst="pie">
              <a:avLst/>
            </a:prstGeom>
            <a:solidFill>
              <a:srgbClr val="eeec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21"/>
            <p:cNvSpPr/>
            <p:nvPr/>
          </p:nvSpPr>
          <p:spPr>
            <a:xfrm>
              <a:off x="4563000" y="415656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22"/>
            <p:cNvSpPr/>
            <p:nvPr/>
          </p:nvSpPr>
          <p:spPr>
            <a:xfrm>
              <a:off x="4550400" y="1775520"/>
              <a:ext cx="328320" cy="206280"/>
            </a:xfrm>
            <a:prstGeom prst="pie">
              <a:avLst/>
            </a:prstGeom>
            <a:noFill/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23"/>
            <p:cNvSpPr/>
            <p:nvPr/>
          </p:nvSpPr>
          <p:spPr>
            <a:xfrm>
              <a:off x="4548600" y="1786320"/>
              <a:ext cx="116280" cy="14616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24"/>
            <p:cNvSpPr/>
            <p:nvPr/>
          </p:nvSpPr>
          <p:spPr>
            <a:xfrm>
              <a:off x="4866120" y="200196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25"/>
            <p:cNvSpPr/>
            <p:nvPr/>
          </p:nvSpPr>
          <p:spPr>
            <a:xfrm>
              <a:off x="4395600" y="2530800"/>
              <a:ext cx="258120" cy="552960"/>
            </a:xfrm>
            <a:prstGeom prst="pie">
              <a:avLst/>
            </a:pr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26"/>
            <p:cNvSpPr/>
            <p:nvPr/>
          </p:nvSpPr>
          <p:spPr>
            <a:xfrm>
              <a:off x="4395600" y="2530800"/>
              <a:ext cx="258120" cy="552960"/>
            </a:xfrm>
            <a:prstGeom prst="pie">
              <a:avLst/>
            </a:prstGeom>
            <a:noFill/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27"/>
            <p:cNvSpPr/>
            <p:nvPr/>
          </p:nvSpPr>
          <p:spPr>
            <a:xfrm>
              <a:off x="4394160" y="307476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28"/>
            <p:cNvSpPr/>
            <p:nvPr/>
          </p:nvSpPr>
          <p:spPr>
            <a:xfrm>
              <a:off x="4397040" y="3005640"/>
              <a:ext cx="23760" cy="6444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9"/>
            <p:cNvSpPr/>
            <p:nvPr/>
          </p:nvSpPr>
          <p:spPr>
            <a:xfrm>
              <a:off x="4406760" y="2530800"/>
              <a:ext cx="202320" cy="42984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30"/>
            <p:cNvSpPr/>
            <p:nvPr/>
          </p:nvSpPr>
          <p:spPr>
            <a:xfrm>
              <a:off x="4629960" y="252900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31"/>
            <p:cNvSpPr/>
            <p:nvPr/>
          </p:nvSpPr>
          <p:spPr>
            <a:xfrm>
              <a:off x="4669920" y="2597040"/>
              <a:ext cx="2412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32"/>
            <p:cNvSpPr/>
            <p:nvPr/>
          </p:nvSpPr>
          <p:spPr>
            <a:xfrm>
              <a:off x="4757760" y="2524680"/>
              <a:ext cx="259920" cy="551520"/>
            </a:xfrm>
            <a:prstGeom prst="pie">
              <a:avLst/>
            </a:pr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33"/>
            <p:cNvSpPr/>
            <p:nvPr/>
          </p:nvSpPr>
          <p:spPr>
            <a:xfrm>
              <a:off x="4757760" y="2524680"/>
              <a:ext cx="259920" cy="551520"/>
            </a:xfrm>
            <a:prstGeom prst="pie">
              <a:avLst/>
            </a:prstGeom>
            <a:noFill/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34"/>
            <p:cNvSpPr/>
            <p:nvPr/>
          </p:nvSpPr>
          <p:spPr>
            <a:xfrm>
              <a:off x="4773600" y="2523240"/>
              <a:ext cx="30240" cy="691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35"/>
            <p:cNvSpPr/>
            <p:nvPr/>
          </p:nvSpPr>
          <p:spPr>
            <a:xfrm>
              <a:off x="4803840" y="2523240"/>
              <a:ext cx="219600" cy="4885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36"/>
            <p:cNvSpPr/>
            <p:nvPr/>
          </p:nvSpPr>
          <p:spPr>
            <a:xfrm>
              <a:off x="5045040" y="306432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37"/>
            <p:cNvSpPr/>
            <p:nvPr/>
          </p:nvSpPr>
          <p:spPr>
            <a:xfrm>
              <a:off x="5045040" y="306576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38"/>
            <p:cNvSpPr/>
            <p:nvPr/>
          </p:nvSpPr>
          <p:spPr>
            <a:xfrm>
              <a:off x="5045040" y="310104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39"/>
            <p:cNvSpPr/>
            <p:nvPr/>
          </p:nvSpPr>
          <p:spPr>
            <a:xfrm>
              <a:off x="5001840" y="313488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40"/>
            <p:cNvSpPr/>
            <p:nvPr/>
          </p:nvSpPr>
          <p:spPr>
            <a:xfrm>
              <a:off x="4993920" y="313488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41"/>
            <p:cNvSpPr/>
            <p:nvPr/>
          </p:nvSpPr>
          <p:spPr>
            <a:xfrm>
              <a:off x="4756320" y="300852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42"/>
            <p:cNvSpPr/>
            <p:nvPr/>
          </p:nvSpPr>
          <p:spPr>
            <a:xfrm>
              <a:off x="4756320" y="2598480"/>
              <a:ext cx="23760" cy="3697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43"/>
            <p:cNvSpPr/>
            <p:nvPr/>
          </p:nvSpPr>
          <p:spPr>
            <a:xfrm>
              <a:off x="4650480" y="2572560"/>
              <a:ext cx="264600" cy="388080"/>
            </a:xfrm>
            <a:prstGeom prst="pie">
              <a:avLst/>
            </a:pr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44"/>
            <p:cNvSpPr/>
            <p:nvPr/>
          </p:nvSpPr>
          <p:spPr>
            <a:xfrm>
              <a:off x="4650480" y="2572560"/>
              <a:ext cx="264600" cy="388080"/>
            </a:xfrm>
            <a:prstGeom prst="pie">
              <a:avLst/>
            </a:prstGeom>
            <a:noFill/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45"/>
            <p:cNvSpPr/>
            <p:nvPr/>
          </p:nvSpPr>
          <p:spPr>
            <a:xfrm>
              <a:off x="4650480" y="2678760"/>
              <a:ext cx="24120" cy="11556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46"/>
            <p:cNvSpPr/>
            <p:nvPr/>
          </p:nvSpPr>
          <p:spPr>
            <a:xfrm>
              <a:off x="4673160" y="267552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47"/>
            <p:cNvSpPr/>
            <p:nvPr/>
          </p:nvSpPr>
          <p:spPr>
            <a:xfrm>
              <a:off x="4673160" y="267552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48"/>
            <p:cNvSpPr/>
            <p:nvPr/>
          </p:nvSpPr>
          <p:spPr>
            <a:xfrm>
              <a:off x="4660560" y="2641680"/>
              <a:ext cx="23760" cy="3240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49"/>
            <p:cNvSpPr/>
            <p:nvPr/>
          </p:nvSpPr>
          <p:spPr>
            <a:xfrm>
              <a:off x="4660560" y="263268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50"/>
            <p:cNvSpPr/>
            <p:nvPr/>
          </p:nvSpPr>
          <p:spPr>
            <a:xfrm>
              <a:off x="4660560" y="262800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51"/>
            <p:cNvSpPr/>
            <p:nvPr/>
          </p:nvSpPr>
          <p:spPr>
            <a:xfrm>
              <a:off x="4660560" y="262296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52"/>
            <p:cNvSpPr/>
            <p:nvPr/>
          </p:nvSpPr>
          <p:spPr>
            <a:xfrm>
              <a:off x="4660560" y="262296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53"/>
            <p:cNvSpPr/>
            <p:nvPr/>
          </p:nvSpPr>
          <p:spPr>
            <a:xfrm>
              <a:off x="4660560" y="262188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54"/>
            <p:cNvSpPr/>
            <p:nvPr/>
          </p:nvSpPr>
          <p:spPr>
            <a:xfrm>
              <a:off x="4660560" y="260316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55"/>
            <p:cNvSpPr/>
            <p:nvPr/>
          </p:nvSpPr>
          <p:spPr>
            <a:xfrm>
              <a:off x="4676400" y="260316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56"/>
            <p:cNvSpPr/>
            <p:nvPr/>
          </p:nvSpPr>
          <p:spPr>
            <a:xfrm>
              <a:off x="4690800" y="2606400"/>
              <a:ext cx="2520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57"/>
            <p:cNvSpPr/>
            <p:nvPr/>
          </p:nvSpPr>
          <p:spPr>
            <a:xfrm>
              <a:off x="4704840" y="2622960"/>
              <a:ext cx="2412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58"/>
            <p:cNvSpPr/>
            <p:nvPr/>
          </p:nvSpPr>
          <p:spPr>
            <a:xfrm>
              <a:off x="4704840" y="2637000"/>
              <a:ext cx="2412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59"/>
            <p:cNvSpPr/>
            <p:nvPr/>
          </p:nvSpPr>
          <p:spPr>
            <a:xfrm>
              <a:off x="4704840" y="2643480"/>
              <a:ext cx="2412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60"/>
            <p:cNvSpPr/>
            <p:nvPr/>
          </p:nvSpPr>
          <p:spPr>
            <a:xfrm>
              <a:off x="4706640" y="266796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61"/>
            <p:cNvSpPr/>
            <p:nvPr/>
          </p:nvSpPr>
          <p:spPr>
            <a:xfrm>
              <a:off x="4706640" y="266976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62"/>
            <p:cNvSpPr/>
            <p:nvPr/>
          </p:nvSpPr>
          <p:spPr>
            <a:xfrm>
              <a:off x="4708080" y="2678760"/>
              <a:ext cx="255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63"/>
            <p:cNvSpPr/>
            <p:nvPr/>
          </p:nvSpPr>
          <p:spPr>
            <a:xfrm>
              <a:off x="4818240" y="2618640"/>
              <a:ext cx="2412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64"/>
            <p:cNvSpPr/>
            <p:nvPr/>
          </p:nvSpPr>
          <p:spPr>
            <a:xfrm>
              <a:off x="4818240" y="2621880"/>
              <a:ext cx="2412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65"/>
            <p:cNvSpPr/>
            <p:nvPr/>
          </p:nvSpPr>
          <p:spPr>
            <a:xfrm>
              <a:off x="4812120" y="265716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66"/>
            <p:cNvSpPr/>
            <p:nvPr/>
          </p:nvSpPr>
          <p:spPr>
            <a:xfrm>
              <a:off x="4813560" y="266796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67"/>
            <p:cNvSpPr/>
            <p:nvPr/>
          </p:nvSpPr>
          <p:spPr>
            <a:xfrm>
              <a:off x="4815360" y="266796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68"/>
            <p:cNvSpPr/>
            <p:nvPr/>
          </p:nvSpPr>
          <p:spPr>
            <a:xfrm>
              <a:off x="4942440" y="2845080"/>
              <a:ext cx="2412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69"/>
            <p:cNvSpPr/>
            <p:nvPr/>
          </p:nvSpPr>
          <p:spPr>
            <a:xfrm>
              <a:off x="4902840" y="299916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70"/>
            <p:cNvSpPr/>
            <p:nvPr/>
          </p:nvSpPr>
          <p:spPr>
            <a:xfrm>
              <a:off x="4472280" y="3047040"/>
              <a:ext cx="401760" cy="227880"/>
            </a:xfrm>
            <a:prstGeom prst="pie">
              <a:avLst/>
            </a:pr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71"/>
            <p:cNvSpPr/>
            <p:nvPr/>
          </p:nvSpPr>
          <p:spPr>
            <a:xfrm>
              <a:off x="4472280" y="3047040"/>
              <a:ext cx="401760" cy="227880"/>
            </a:xfrm>
            <a:prstGeom prst="pie">
              <a:avLst/>
            </a:prstGeom>
            <a:noFill/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72"/>
            <p:cNvSpPr/>
            <p:nvPr/>
          </p:nvSpPr>
          <p:spPr>
            <a:xfrm>
              <a:off x="4472280" y="3188880"/>
              <a:ext cx="23760" cy="2736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73"/>
            <p:cNvSpPr/>
            <p:nvPr/>
          </p:nvSpPr>
          <p:spPr>
            <a:xfrm>
              <a:off x="4472280" y="317628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74"/>
            <p:cNvSpPr/>
            <p:nvPr/>
          </p:nvSpPr>
          <p:spPr>
            <a:xfrm>
              <a:off x="4472280" y="315828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75"/>
            <p:cNvSpPr/>
            <p:nvPr/>
          </p:nvSpPr>
          <p:spPr>
            <a:xfrm>
              <a:off x="4472280" y="315180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76"/>
            <p:cNvSpPr/>
            <p:nvPr/>
          </p:nvSpPr>
          <p:spPr>
            <a:xfrm>
              <a:off x="4470480" y="3047040"/>
              <a:ext cx="86040" cy="9540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77"/>
            <p:cNvSpPr/>
            <p:nvPr/>
          </p:nvSpPr>
          <p:spPr>
            <a:xfrm>
              <a:off x="4564440" y="304560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78"/>
            <p:cNvSpPr/>
            <p:nvPr/>
          </p:nvSpPr>
          <p:spPr>
            <a:xfrm>
              <a:off x="4563000" y="3045600"/>
              <a:ext cx="17208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79"/>
            <p:cNvSpPr/>
            <p:nvPr/>
          </p:nvSpPr>
          <p:spPr>
            <a:xfrm>
              <a:off x="4734000" y="3064320"/>
              <a:ext cx="3312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80"/>
            <p:cNvSpPr/>
            <p:nvPr/>
          </p:nvSpPr>
          <p:spPr>
            <a:xfrm>
              <a:off x="4770360" y="3065760"/>
              <a:ext cx="3348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81"/>
            <p:cNvSpPr/>
            <p:nvPr/>
          </p:nvSpPr>
          <p:spPr>
            <a:xfrm>
              <a:off x="4791240" y="3065760"/>
              <a:ext cx="2664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82"/>
            <p:cNvSpPr/>
            <p:nvPr/>
          </p:nvSpPr>
          <p:spPr>
            <a:xfrm>
              <a:off x="4820040" y="306576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83"/>
            <p:cNvSpPr/>
            <p:nvPr/>
          </p:nvSpPr>
          <p:spPr>
            <a:xfrm>
              <a:off x="4821480" y="3065760"/>
              <a:ext cx="3492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84"/>
            <p:cNvSpPr/>
            <p:nvPr/>
          </p:nvSpPr>
          <p:spPr>
            <a:xfrm>
              <a:off x="4856400" y="3066840"/>
              <a:ext cx="255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85"/>
            <p:cNvSpPr/>
            <p:nvPr/>
          </p:nvSpPr>
          <p:spPr>
            <a:xfrm>
              <a:off x="4536000" y="329832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86"/>
            <p:cNvSpPr/>
            <p:nvPr/>
          </p:nvSpPr>
          <p:spPr>
            <a:xfrm>
              <a:off x="4473720" y="3281400"/>
              <a:ext cx="633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87"/>
            <p:cNvSpPr/>
            <p:nvPr/>
          </p:nvSpPr>
          <p:spPr>
            <a:xfrm>
              <a:off x="5177160" y="2891520"/>
              <a:ext cx="144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88"/>
            <p:cNvSpPr/>
            <p:nvPr/>
          </p:nvSpPr>
          <p:spPr>
            <a:xfrm>
              <a:off x="5177160" y="2897640"/>
              <a:ext cx="144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89"/>
            <p:cNvSpPr/>
            <p:nvPr/>
          </p:nvSpPr>
          <p:spPr>
            <a:xfrm>
              <a:off x="4497840" y="3265920"/>
              <a:ext cx="146520" cy="248040"/>
            </a:xfrm>
            <a:prstGeom prst="pie">
              <a:avLst/>
            </a:pr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90"/>
            <p:cNvSpPr/>
            <p:nvPr/>
          </p:nvSpPr>
          <p:spPr>
            <a:xfrm>
              <a:off x="4497840" y="3265920"/>
              <a:ext cx="146520" cy="248040"/>
            </a:xfrm>
            <a:prstGeom prst="pie">
              <a:avLst/>
            </a:prstGeom>
            <a:noFill/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1"/>
            <p:cNvSpPr/>
            <p:nvPr/>
          </p:nvSpPr>
          <p:spPr>
            <a:xfrm>
              <a:off x="4497840" y="3415320"/>
              <a:ext cx="38160" cy="907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92"/>
            <p:cNvSpPr/>
            <p:nvPr/>
          </p:nvSpPr>
          <p:spPr>
            <a:xfrm>
              <a:off x="4496400" y="341100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93"/>
            <p:cNvSpPr/>
            <p:nvPr/>
          </p:nvSpPr>
          <p:spPr>
            <a:xfrm>
              <a:off x="4496400" y="3265920"/>
              <a:ext cx="97200" cy="14796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94"/>
            <p:cNvSpPr/>
            <p:nvPr/>
          </p:nvSpPr>
          <p:spPr>
            <a:xfrm>
              <a:off x="4601520" y="3265920"/>
              <a:ext cx="54000" cy="4320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95"/>
            <p:cNvSpPr/>
            <p:nvPr/>
          </p:nvSpPr>
          <p:spPr>
            <a:xfrm>
              <a:off x="4631760" y="3301560"/>
              <a:ext cx="27000" cy="5220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96"/>
            <p:cNvSpPr/>
            <p:nvPr/>
          </p:nvSpPr>
          <p:spPr>
            <a:xfrm>
              <a:off x="4604760" y="3356640"/>
              <a:ext cx="23760" cy="3384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97"/>
            <p:cNvSpPr/>
            <p:nvPr/>
          </p:nvSpPr>
          <p:spPr>
            <a:xfrm>
              <a:off x="4604760" y="3392280"/>
              <a:ext cx="23760" cy="4284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98"/>
            <p:cNvSpPr/>
            <p:nvPr/>
          </p:nvSpPr>
          <p:spPr>
            <a:xfrm>
              <a:off x="4620600" y="343728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99"/>
            <p:cNvSpPr/>
            <p:nvPr/>
          </p:nvSpPr>
          <p:spPr>
            <a:xfrm>
              <a:off x="4623840" y="3441600"/>
              <a:ext cx="28440" cy="5220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00"/>
            <p:cNvSpPr/>
            <p:nvPr/>
          </p:nvSpPr>
          <p:spPr>
            <a:xfrm>
              <a:off x="4654080" y="349848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01"/>
            <p:cNvSpPr/>
            <p:nvPr/>
          </p:nvSpPr>
          <p:spPr>
            <a:xfrm>
              <a:off x="4618800" y="354024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02"/>
            <p:cNvSpPr/>
            <p:nvPr/>
          </p:nvSpPr>
          <p:spPr>
            <a:xfrm>
              <a:off x="4708080" y="3256920"/>
              <a:ext cx="266400" cy="126000"/>
            </a:xfrm>
            <a:prstGeom prst="pie">
              <a:avLst/>
            </a:pr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03"/>
            <p:cNvSpPr/>
            <p:nvPr/>
          </p:nvSpPr>
          <p:spPr>
            <a:xfrm>
              <a:off x="4708080" y="3256920"/>
              <a:ext cx="266400" cy="126000"/>
            </a:xfrm>
            <a:prstGeom prst="pie">
              <a:avLst/>
            </a:prstGeom>
            <a:noFill/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04"/>
            <p:cNvSpPr/>
            <p:nvPr/>
          </p:nvSpPr>
          <p:spPr>
            <a:xfrm>
              <a:off x="4734000" y="3389400"/>
              <a:ext cx="3312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05"/>
            <p:cNvSpPr/>
            <p:nvPr/>
          </p:nvSpPr>
          <p:spPr>
            <a:xfrm>
              <a:off x="4734000" y="338940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06"/>
            <p:cNvSpPr/>
            <p:nvPr/>
          </p:nvSpPr>
          <p:spPr>
            <a:xfrm>
              <a:off x="4732200" y="3389400"/>
              <a:ext cx="2412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07"/>
            <p:cNvSpPr/>
            <p:nvPr/>
          </p:nvSpPr>
          <p:spPr>
            <a:xfrm>
              <a:off x="4708080" y="336456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08"/>
            <p:cNvSpPr/>
            <p:nvPr/>
          </p:nvSpPr>
          <p:spPr>
            <a:xfrm>
              <a:off x="4708080" y="336168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09"/>
            <p:cNvSpPr/>
            <p:nvPr/>
          </p:nvSpPr>
          <p:spPr>
            <a:xfrm>
              <a:off x="4708080" y="336168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10"/>
            <p:cNvSpPr/>
            <p:nvPr/>
          </p:nvSpPr>
          <p:spPr>
            <a:xfrm>
              <a:off x="4706640" y="3265920"/>
              <a:ext cx="50760" cy="8784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11"/>
            <p:cNvSpPr/>
            <p:nvPr/>
          </p:nvSpPr>
          <p:spPr>
            <a:xfrm>
              <a:off x="4757760" y="326592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12"/>
            <p:cNvSpPr/>
            <p:nvPr/>
          </p:nvSpPr>
          <p:spPr>
            <a:xfrm>
              <a:off x="4761000" y="326592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13"/>
            <p:cNvSpPr/>
            <p:nvPr/>
          </p:nvSpPr>
          <p:spPr>
            <a:xfrm>
              <a:off x="4764240" y="326448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14"/>
            <p:cNvSpPr/>
            <p:nvPr/>
          </p:nvSpPr>
          <p:spPr>
            <a:xfrm>
              <a:off x="4757760" y="3256920"/>
              <a:ext cx="22464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15"/>
            <p:cNvSpPr/>
            <p:nvPr/>
          </p:nvSpPr>
          <p:spPr>
            <a:xfrm>
              <a:off x="4988880" y="327996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16"/>
            <p:cNvSpPr/>
            <p:nvPr/>
          </p:nvSpPr>
          <p:spPr>
            <a:xfrm>
              <a:off x="4988880" y="327996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17"/>
            <p:cNvSpPr/>
            <p:nvPr/>
          </p:nvSpPr>
          <p:spPr>
            <a:xfrm>
              <a:off x="4928400" y="3279960"/>
              <a:ext cx="6192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18"/>
            <p:cNvSpPr/>
            <p:nvPr/>
          </p:nvSpPr>
          <p:spPr>
            <a:xfrm>
              <a:off x="4826520" y="3288960"/>
              <a:ext cx="95400" cy="4896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19"/>
            <p:cNvSpPr/>
            <p:nvPr/>
          </p:nvSpPr>
          <p:spPr>
            <a:xfrm>
              <a:off x="4823280" y="334152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20"/>
            <p:cNvSpPr/>
            <p:nvPr/>
          </p:nvSpPr>
          <p:spPr>
            <a:xfrm>
              <a:off x="4768920" y="3341520"/>
              <a:ext cx="55440" cy="4896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21"/>
            <p:cNvSpPr/>
            <p:nvPr/>
          </p:nvSpPr>
          <p:spPr>
            <a:xfrm>
              <a:off x="4768920" y="339372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22"/>
            <p:cNvSpPr/>
            <p:nvPr/>
          </p:nvSpPr>
          <p:spPr>
            <a:xfrm>
              <a:off x="4767120" y="3395520"/>
              <a:ext cx="255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23"/>
            <p:cNvSpPr/>
            <p:nvPr/>
          </p:nvSpPr>
          <p:spPr>
            <a:xfrm>
              <a:off x="4881960" y="3278160"/>
              <a:ext cx="130320" cy="237600"/>
            </a:xfrm>
            <a:prstGeom prst="pie">
              <a:avLst/>
            </a:pr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24"/>
            <p:cNvSpPr/>
            <p:nvPr/>
          </p:nvSpPr>
          <p:spPr>
            <a:xfrm>
              <a:off x="4881960" y="3278160"/>
              <a:ext cx="130320" cy="237600"/>
            </a:xfrm>
            <a:prstGeom prst="pie">
              <a:avLst/>
            </a:prstGeom>
            <a:noFill/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25"/>
            <p:cNvSpPr/>
            <p:nvPr/>
          </p:nvSpPr>
          <p:spPr>
            <a:xfrm>
              <a:off x="4886640" y="350316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26"/>
            <p:cNvSpPr/>
            <p:nvPr/>
          </p:nvSpPr>
          <p:spPr>
            <a:xfrm>
              <a:off x="4888800" y="349704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27"/>
            <p:cNvSpPr/>
            <p:nvPr/>
          </p:nvSpPr>
          <p:spPr>
            <a:xfrm>
              <a:off x="4888800" y="3453840"/>
              <a:ext cx="23760" cy="4608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28"/>
            <p:cNvSpPr/>
            <p:nvPr/>
          </p:nvSpPr>
          <p:spPr>
            <a:xfrm>
              <a:off x="4902840" y="345060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29"/>
            <p:cNvSpPr/>
            <p:nvPr/>
          </p:nvSpPr>
          <p:spPr>
            <a:xfrm>
              <a:off x="4902840" y="345060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30"/>
            <p:cNvSpPr/>
            <p:nvPr/>
          </p:nvSpPr>
          <p:spPr>
            <a:xfrm>
              <a:off x="4904640" y="3407760"/>
              <a:ext cx="23760" cy="3996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31"/>
            <p:cNvSpPr/>
            <p:nvPr/>
          </p:nvSpPr>
          <p:spPr>
            <a:xfrm>
              <a:off x="4920480" y="340020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32"/>
            <p:cNvSpPr/>
            <p:nvPr/>
          </p:nvSpPr>
          <p:spPr>
            <a:xfrm>
              <a:off x="4881960" y="3327840"/>
              <a:ext cx="38160" cy="6588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33"/>
            <p:cNvSpPr/>
            <p:nvPr/>
          </p:nvSpPr>
          <p:spPr>
            <a:xfrm>
              <a:off x="4881960" y="3278160"/>
              <a:ext cx="95400" cy="493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34"/>
            <p:cNvSpPr/>
            <p:nvPr/>
          </p:nvSpPr>
          <p:spPr>
            <a:xfrm>
              <a:off x="4986000" y="3278160"/>
              <a:ext cx="2520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35"/>
            <p:cNvSpPr/>
            <p:nvPr/>
          </p:nvSpPr>
          <p:spPr>
            <a:xfrm>
              <a:off x="4992120" y="329652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36"/>
            <p:cNvSpPr/>
            <p:nvPr/>
          </p:nvSpPr>
          <p:spPr>
            <a:xfrm>
              <a:off x="5000040" y="3307320"/>
              <a:ext cx="23760" cy="6624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37"/>
            <p:cNvSpPr/>
            <p:nvPr/>
          </p:nvSpPr>
          <p:spPr>
            <a:xfrm>
              <a:off x="5025600" y="338004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38"/>
            <p:cNvSpPr/>
            <p:nvPr/>
          </p:nvSpPr>
          <p:spPr>
            <a:xfrm>
              <a:off x="4934520" y="3404520"/>
              <a:ext cx="84600" cy="1231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39"/>
            <p:cNvSpPr/>
            <p:nvPr/>
          </p:nvSpPr>
          <p:spPr>
            <a:xfrm>
              <a:off x="4929840" y="353880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40"/>
            <p:cNvSpPr/>
            <p:nvPr/>
          </p:nvSpPr>
          <p:spPr>
            <a:xfrm>
              <a:off x="4929840" y="353880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41"/>
            <p:cNvSpPr/>
            <p:nvPr/>
          </p:nvSpPr>
          <p:spPr>
            <a:xfrm>
              <a:off x="4931640" y="354024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42"/>
            <p:cNvSpPr/>
            <p:nvPr/>
          </p:nvSpPr>
          <p:spPr>
            <a:xfrm>
              <a:off x="4404960" y="3961080"/>
              <a:ext cx="162720" cy="409680"/>
            </a:xfrm>
            <a:prstGeom prst="pie">
              <a:avLst/>
            </a:prstGeom>
            <a:noFill/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43"/>
            <p:cNvSpPr/>
            <p:nvPr/>
          </p:nvSpPr>
          <p:spPr>
            <a:xfrm>
              <a:off x="4424400" y="406908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44"/>
            <p:cNvSpPr/>
            <p:nvPr/>
          </p:nvSpPr>
          <p:spPr>
            <a:xfrm>
              <a:off x="4434120" y="406908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45"/>
            <p:cNvSpPr/>
            <p:nvPr/>
          </p:nvSpPr>
          <p:spPr>
            <a:xfrm>
              <a:off x="4442040" y="406908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46"/>
            <p:cNvSpPr/>
            <p:nvPr/>
          </p:nvSpPr>
          <p:spPr>
            <a:xfrm>
              <a:off x="4459320" y="407052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47"/>
            <p:cNvSpPr/>
            <p:nvPr/>
          </p:nvSpPr>
          <p:spPr>
            <a:xfrm>
              <a:off x="4483080" y="3961080"/>
              <a:ext cx="51120" cy="7668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48"/>
            <p:cNvSpPr/>
            <p:nvPr/>
          </p:nvSpPr>
          <p:spPr>
            <a:xfrm>
              <a:off x="4515480" y="398592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49"/>
            <p:cNvSpPr/>
            <p:nvPr/>
          </p:nvSpPr>
          <p:spPr>
            <a:xfrm>
              <a:off x="4563000" y="403020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50"/>
            <p:cNvSpPr/>
            <p:nvPr/>
          </p:nvSpPr>
          <p:spPr>
            <a:xfrm>
              <a:off x="4467240" y="412416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51"/>
            <p:cNvSpPr/>
            <p:nvPr/>
          </p:nvSpPr>
          <p:spPr>
            <a:xfrm>
              <a:off x="4443480" y="3859200"/>
              <a:ext cx="34920" cy="163080"/>
            </a:xfrm>
            <a:prstGeom prst="pie">
              <a:avLst/>
            </a:prstGeom>
            <a:noFill/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52"/>
            <p:cNvSpPr/>
            <p:nvPr/>
          </p:nvSpPr>
          <p:spPr>
            <a:xfrm>
              <a:off x="4486320" y="4104360"/>
              <a:ext cx="25560" cy="30600"/>
            </a:xfrm>
            <a:prstGeom prst="pie">
              <a:avLst/>
            </a:prstGeom>
            <a:noFill/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53"/>
            <p:cNvSpPr/>
            <p:nvPr/>
          </p:nvSpPr>
          <p:spPr>
            <a:xfrm>
              <a:off x="4486320" y="410292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54"/>
            <p:cNvSpPr/>
            <p:nvPr/>
          </p:nvSpPr>
          <p:spPr>
            <a:xfrm>
              <a:off x="4486320" y="4102920"/>
              <a:ext cx="25560" cy="3204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55"/>
            <p:cNvSpPr/>
            <p:nvPr/>
          </p:nvSpPr>
          <p:spPr>
            <a:xfrm>
              <a:off x="4555080" y="4155480"/>
              <a:ext cx="326880" cy="181440"/>
            </a:xfrm>
            <a:prstGeom prst="pie">
              <a:avLst/>
            </a:prstGeom>
            <a:noFill/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56"/>
            <p:cNvSpPr/>
            <p:nvPr/>
          </p:nvSpPr>
          <p:spPr>
            <a:xfrm>
              <a:off x="4614120" y="4278240"/>
              <a:ext cx="3348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57"/>
            <p:cNvSpPr/>
            <p:nvPr/>
          </p:nvSpPr>
          <p:spPr>
            <a:xfrm>
              <a:off x="4555080" y="4155480"/>
              <a:ext cx="54000" cy="11376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58"/>
            <p:cNvSpPr/>
            <p:nvPr/>
          </p:nvSpPr>
          <p:spPr>
            <a:xfrm>
              <a:off x="4606200" y="4155480"/>
              <a:ext cx="54000" cy="5040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59"/>
            <p:cNvSpPr/>
            <p:nvPr/>
          </p:nvSpPr>
          <p:spPr>
            <a:xfrm>
              <a:off x="4644360" y="420912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60"/>
            <p:cNvSpPr/>
            <p:nvPr/>
          </p:nvSpPr>
          <p:spPr>
            <a:xfrm>
              <a:off x="4644360" y="420912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61"/>
            <p:cNvSpPr/>
            <p:nvPr/>
          </p:nvSpPr>
          <p:spPr>
            <a:xfrm>
              <a:off x="4585680" y="4189320"/>
              <a:ext cx="5400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62"/>
            <p:cNvSpPr/>
            <p:nvPr/>
          </p:nvSpPr>
          <p:spPr>
            <a:xfrm>
              <a:off x="4585680" y="4198320"/>
              <a:ext cx="23760" cy="4896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63"/>
            <p:cNvSpPr/>
            <p:nvPr/>
          </p:nvSpPr>
          <p:spPr>
            <a:xfrm>
              <a:off x="4588560" y="4250880"/>
              <a:ext cx="2412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64"/>
            <p:cNvSpPr/>
            <p:nvPr/>
          </p:nvSpPr>
          <p:spPr>
            <a:xfrm>
              <a:off x="4610880" y="425700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65"/>
            <p:cNvSpPr/>
            <p:nvPr/>
          </p:nvSpPr>
          <p:spPr>
            <a:xfrm>
              <a:off x="4610880" y="425700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66"/>
            <p:cNvSpPr/>
            <p:nvPr/>
          </p:nvSpPr>
          <p:spPr>
            <a:xfrm>
              <a:off x="4620600" y="425700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67"/>
            <p:cNvSpPr/>
            <p:nvPr/>
          </p:nvSpPr>
          <p:spPr>
            <a:xfrm>
              <a:off x="4622040" y="425700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68"/>
            <p:cNvSpPr/>
            <p:nvPr/>
          </p:nvSpPr>
          <p:spPr>
            <a:xfrm>
              <a:off x="4628520" y="4203000"/>
              <a:ext cx="89280" cy="5076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69"/>
            <p:cNvSpPr/>
            <p:nvPr/>
          </p:nvSpPr>
          <p:spPr>
            <a:xfrm>
              <a:off x="4723920" y="420300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70"/>
            <p:cNvSpPr/>
            <p:nvPr/>
          </p:nvSpPr>
          <p:spPr>
            <a:xfrm>
              <a:off x="4732200" y="4204440"/>
              <a:ext cx="669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71"/>
            <p:cNvSpPr/>
            <p:nvPr/>
          </p:nvSpPr>
          <p:spPr>
            <a:xfrm>
              <a:off x="4805280" y="4226040"/>
              <a:ext cx="255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72"/>
            <p:cNvSpPr/>
            <p:nvPr/>
          </p:nvSpPr>
          <p:spPr>
            <a:xfrm>
              <a:off x="4829400" y="4249440"/>
              <a:ext cx="2412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73"/>
            <p:cNvSpPr/>
            <p:nvPr/>
          </p:nvSpPr>
          <p:spPr>
            <a:xfrm>
              <a:off x="4843800" y="4258440"/>
              <a:ext cx="255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74"/>
            <p:cNvSpPr/>
            <p:nvPr/>
          </p:nvSpPr>
          <p:spPr>
            <a:xfrm>
              <a:off x="4847040" y="4232160"/>
              <a:ext cx="34920" cy="2736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175"/>
            <p:cNvSpPr/>
            <p:nvPr/>
          </p:nvSpPr>
          <p:spPr>
            <a:xfrm>
              <a:off x="4883400" y="4228920"/>
              <a:ext cx="255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76"/>
            <p:cNvSpPr/>
            <p:nvPr/>
          </p:nvSpPr>
          <p:spPr>
            <a:xfrm>
              <a:off x="4877280" y="4200120"/>
              <a:ext cx="23760" cy="2880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77"/>
            <p:cNvSpPr/>
            <p:nvPr/>
          </p:nvSpPr>
          <p:spPr>
            <a:xfrm>
              <a:off x="4812120" y="4156560"/>
              <a:ext cx="5400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78"/>
            <p:cNvSpPr/>
            <p:nvPr/>
          </p:nvSpPr>
          <p:spPr>
            <a:xfrm>
              <a:off x="4869360" y="4156560"/>
              <a:ext cx="2520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79"/>
            <p:cNvSpPr/>
            <p:nvPr/>
          </p:nvSpPr>
          <p:spPr>
            <a:xfrm>
              <a:off x="4848480" y="428004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80"/>
            <p:cNvSpPr/>
            <p:nvPr/>
          </p:nvSpPr>
          <p:spPr>
            <a:xfrm>
              <a:off x="4850280" y="428004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81"/>
            <p:cNvSpPr/>
            <p:nvPr/>
          </p:nvSpPr>
          <p:spPr>
            <a:xfrm>
              <a:off x="4829400" y="4281480"/>
              <a:ext cx="2412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82"/>
            <p:cNvSpPr/>
            <p:nvPr/>
          </p:nvSpPr>
          <p:spPr>
            <a:xfrm>
              <a:off x="4741920" y="435384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83"/>
            <p:cNvSpPr/>
            <p:nvPr/>
          </p:nvSpPr>
          <p:spPr>
            <a:xfrm>
              <a:off x="4376520" y="5873400"/>
              <a:ext cx="189720" cy="409680"/>
            </a:xfrm>
            <a:prstGeom prst="pie">
              <a:avLst/>
            </a:prstGeom>
            <a:noFill/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84"/>
            <p:cNvSpPr/>
            <p:nvPr/>
          </p:nvSpPr>
          <p:spPr>
            <a:xfrm>
              <a:off x="4507560" y="5884200"/>
              <a:ext cx="33120" cy="6300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85"/>
            <p:cNvSpPr/>
            <p:nvPr/>
          </p:nvSpPr>
          <p:spPr>
            <a:xfrm>
              <a:off x="4526640" y="5955120"/>
              <a:ext cx="23760" cy="6948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86"/>
            <p:cNvSpPr/>
            <p:nvPr/>
          </p:nvSpPr>
          <p:spPr>
            <a:xfrm>
              <a:off x="4518360" y="6027480"/>
              <a:ext cx="33480" cy="385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87"/>
            <p:cNvSpPr/>
            <p:nvPr/>
          </p:nvSpPr>
          <p:spPr>
            <a:xfrm>
              <a:off x="4553280" y="5979960"/>
              <a:ext cx="24120" cy="8136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88"/>
            <p:cNvSpPr/>
            <p:nvPr/>
          </p:nvSpPr>
          <p:spPr>
            <a:xfrm>
              <a:off x="4555080" y="5890680"/>
              <a:ext cx="30240" cy="10296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89"/>
            <p:cNvSpPr/>
            <p:nvPr/>
          </p:nvSpPr>
          <p:spPr>
            <a:xfrm>
              <a:off x="4583880" y="5890680"/>
              <a:ext cx="23760" cy="178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90"/>
            <p:cNvSpPr/>
            <p:nvPr/>
          </p:nvSpPr>
          <p:spPr>
            <a:xfrm>
              <a:off x="4563000" y="6072480"/>
              <a:ext cx="23760" cy="8028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91"/>
            <p:cNvSpPr/>
            <p:nvPr/>
          </p:nvSpPr>
          <p:spPr>
            <a:xfrm>
              <a:off x="4555080" y="6154200"/>
              <a:ext cx="23760" cy="3816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92"/>
            <p:cNvSpPr/>
            <p:nvPr/>
          </p:nvSpPr>
          <p:spPr>
            <a:xfrm>
              <a:off x="4496400" y="6189480"/>
              <a:ext cx="54000" cy="8604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93"/>
            <p:cNvSpPr/>
            <p:nvPr/>
          </p:nvSpPr>
          <p:spPr>
            <a:xfrm>
              <a:off x="4443480" y="6211080"/>
              <a:ext cx="52560" cy="1123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94"/>
            <p:cNvSpPr/>
            <p:nvPr/>
          </p:nvSpPr>
          <p:spPr>
            <a:xfrm>
              <a:off x="4427640" y="6212880"/>
              <a:ext cx="65160" cy="907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95"/>
            <p:cNvSpPr/>
            <p:nvPr/>
          </p:nvSpPr>
          <p:spPr>
            <a:xfrm>
              <a:off x="4412880" y="6285240"/>
              <a:ext cx="24120" cy="3528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96"/>
            <p:cNvSpPr/>
            <p:nvPr/>
          </p:nvSpPr>
          <p:spPr>
            <a:xfrm>
              <a:off x="4424400" y="628524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97"/>
            <p:cNvSpPr/>
            <p:nvPr/>
          </p:nvSpPr>
          <p:spPr>
            <a:xfrm>
              <a:off x="4426200" y="6191280"/>
              <a:ext cx="56880" cy="8604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98"/>
            <p:cNvSpPr/>
            <p:nvPr/>
          </p:nvSpPr>
          <p:spPr>
            <a:xfrm>
              <a:off x="4387680" y="6189480"/>
              <a:ext cx="92520" cy="11088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99"/>
            <p:cNvSpPr/>
            <p:nvPr/>
          </p:nvSpPr>
          <p:spPr>
            <a:xfrm>
              <a:off x="4392360" y="628524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200"/>
            <p:cNvSpPr/>
            <p:nvPr/>
          </p:nvSpPr>
          <p:spPr>
            <a:xfrm>
              <a:off x="4394160" y="6200280"/>
              <a:ext cx="53640" cy="8028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201"/>
            <p:cNvSpPr/>
            <p:nvPr/>
          </p:nvSpPr>
          <p:spPr>
            <a:xfrm>
              <a:off x="4449960" y="6168240"/>
              <a:ext cx="23760" cy="3060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202"/>
            <p:cNvSpPr/>
            <p:nvPr/>
          </p:nvSpPr>
          <p:spPr>
            <a:xfrm>
              <a:off x="4375080" y="6168240"/>
              <a:ext cx="86040" cy="9828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203"/>
            <p:cNvSpPr/>
            <p:nvPr/>
          </p:nvSpPr>
          <p:spPr>
            <a:xfrm>
              <a:off x="4375080" y="624672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204"/>
            <p:cNvSpPr/>
            <p:nvPr/>
          </p:nvSpPr>
          <p:spPr>
            <a:xfrm>
              <a:off x="4379760" y="624492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205"/>
            <p:cNvSpPr/>
            <p:nvPr/>
          </p:nvSpPr>
          <p:spPr>
            <a:xfrm>
              <a:off x="4379760" y="6157080"/>
              <a:ext cx="68040" cy="817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206"/>
            <p:cNvSpPr/>
            <p:nvPr/>
          </p:nvSpPr>
          <p:spPr>
            <a:xfrm>
              <a:off x="4453200" y="615708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207"/>
            <p:cNvSpPr/>
            <p:nvPr/>
          </p:nvSpPr>
          <p:spPr>
            <a:xfrm>
              <a:off x="4384440" y="6157080"/>
              <a:ext cx="63360" cy="6120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208"/>
            <p:cNvSpPr/>
            <p:nvPr/>
          </p:nvSpPr>
          <p:spPr>
            <a:xfrm>
              <a:off x="4384440" y="622332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09"/>
            <p:cNvSpPr/>
            <p:nvPr/>
          </p:nvSpPr>
          <p:spPr>
            <a:xfrm>
              <a:off x="4384440" y="6090840"/>
              <a:ext cx="93960" cy="12168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210"/>
            <p:cNvSpPr/>
            <p:nvPr/>
          </p:nvSpPr>
          <p:spPr>
            <a:xfrm>
              <a:off x="4486320" y="609264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211"/>
            <p:cNvSpPr/>
            <p:nvPr/>
          </p:nvSpPr>
          <p:spPr>
            <a:xfrm>
              <a:off x="4486320" y="609264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212"/>
            <p:cNvSpPr/>
            <p:nvPr/>
          </p:nvSpPr>
          <p:spPr>
            <a:xfrm>
              <a:off x="4486320" y="607104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213"/>
            <p:cNvSpPr/>
            <p:nvPr/>
          </p:nvSpPr>
          <p:spPr>
            <a:xfrm>
              <a:off x="4491000" y="6069600"/>
              <a:ext cx="24120" cy="2556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14"/>
            <p:cNvSpPr/>
            <p:nvPr/>
          </p:nvSpPr>
          <p:spPr>
            <a:xfrm>
              <a:off x="4492800" y="5889240"/>
              <a:ext cx="23760" cy="1645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15"/>
            <p:cNvSpPr/>
            <p:nvPr/>
          </p:nvSpPr>
          <p:spPr>
            <a:xfrm>
              <a:off x="4509000" y="5912280"/>
              <a:ext cx="57240" cy="167400"/>
            </a:xfrm>
            <a:prstGeom prst="pie">
              <a:avLst/>
            </a:prstGeom>
            <a:noFill/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16"/>
            <p:cNvSpPr/>
            <p:nvPr/>
          </p:nvSpPr>
          <p:spPr>
            <a:xfrm>
              <a:off x="4509000" y="5910480"/>
              <a:ext cx="23760" cy="133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217"/>
            <p:cNvSpPr/>
            <p:nvPr/>
          </p:nvSpPr>
          <p:spPr>
            <a:xfrm>
              <a:off x="4509000" y="605376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218"/>
            <p:cNvSpPr/>
            <p:nvPr/>
          </p:nvSpPr>
          <p:spPr>
            <a:xfrm>
              <a:off x="4516920" y="607716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19"/>
            <p:cNvSpPr/>
            <p:nvPr/>
          </p:nvSpPr>
          <p:spPr>
            <a:xfrm>
              <a:off x="4518360" y="6077160"/>
              <a:ext cx="2412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0"/>
            <p:cNvSpPr/>
            <p:nvPr/>
          </p:nvSpPr>
          <p:spPr>
            <a:xfrm>
              <a:off x="4518360" y="6077160"/>
              <a:ext cx="2412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21"/>
            <p:cNvSpPr/>
            <p:nvPr/>
          </p:nvSpPr>
          <p:spPr>
            <a:xfrm>
              <a:off x="4520160" y="607716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222"/>
            <p:cNvSpPr/>
            <p:nvPr/>
          </p:nvSpPr>
          <p:spPr>
            <a:xfrm>
              <a:off x="4523400" y="607860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223"/>
            <p:cNvSpPr/>
            <p:nvPr/>
          </p:nvSpPr>
          <p:spPr>
            <a:xfrm>
              <a:off x="4523400" y="608004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224"/>
            <p:cNvSpPr/>
            <p:nvPr/>
          </p:nvSpPr>
          <p:spPr>
            <a:xfrm>
              <a:off x="4528080" y="608004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225"/>
            <p:cNvSpPr/>
            <p:nvPr/>
          </p:nvSpPr>
          <p:spPr>
            <a:xfrm>
              <a:off x="4528080" y="608004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226"/>
            <p:cNvSpPr/>
            <p:nvPr/>
          </p:nvSpPr>
          <p:spPr>
            <a:xfrm>
              <a:off x="4534560" y="608004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227"/>
            <p:cNvSpPr/>
            <p:nvPr/>
          </p:nvSpPr>
          <p:spPr>
            <a:xfrm>
              <a:off x="4537440" y="6081840"/>
              <a:ext cx="255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228"/>
            <p:cNvSpPr/>
            <p:nvPr/>
          </p:nvSpPr>
          <p:spPr>
            <a:xfrm>
              <a:off x="4539240" y="608184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229"/>
            <p:cNvSpPr/>
            <p:nvPr/>
          </p:nvSpPr>
          <p:spPr>
            <a:xfrm>
              <a:off x="4558320" y="5986080"/>
              <a:ext cx="23760" cy="10008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230"/>
            <p:cNvSpPr/>
            <p:nvPr/>
          </p:nvSpPr>
          <p:spPr>
            <a:xfrm>
              <a:off x="4566240" y="5913720"/>
              <a:ext cx="23760" cy="8460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231"/>
            <p:cNvSpPr/>
            <p:nvPr/>
          </p:nvSpPr>
          <p:spPr>
            <a:xfrm>
              <a:off x="4470480" y="6117120"/>
              <a:ext cx="41400" cy="52200"/>
            </a:xfrm>
            <a:prstGeom prst="pie">
              <a:avLst/>
            </a:prstGeom>
            <a:noFill/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232"/>
            <p:cNvSpPr/>
            <p:nvPr/>
          </p:nvSpPr>
          <p:spPr>
            <a:xfrm>
              <a:off x="4469040" y="6115680"/>
              <a:ext cx="42840" cy="3384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233"/>
            <p:cNvSpPr/>
            <p:nvPr/>
          </p:nvSpPr>
          <p:spPr>
            <a:xfrm>
              <a:off x="4510440" y="6134040"/>
              <a:ext cx="2412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34"/>
            <p:cNvSpPr/>
            <p:nvPr/>
          </p:nvSpPr>
          <p:spPr>
            <a:xfrm>
              <a:off x="4509000" y="614340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35"/>
            <p:cNvSpPr/>
            <p:nvPr/>
          </p:nvSpPr>
          <p:spPr>
            <a:xfrm>
              <a:off x="4504320" y="614628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36"/>
            <p:cNvSpPr/>
            <p:nvPr/>
          </p:nvSpPr>
          <p:spPr>
            <a:xfrm>
              <a:off x="4502520" y="6147720"/>
              <a:ext cx="2412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37"/>
            <p:cNvSpPr/>
            <p:nvPr/>
          </p:nvSpPr>
          <p:spPr>
            <a:xfrm>
              <a:off x="4502520" y="6149520"/>
              <a:ext cx="2412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38"/>
            <p:cNvSpPr/>
            <p:nvPr/>
          </p:nvSpPr>
          <p:spPr>
            <a:xfrm>
              <a:off x="4499640" y="615420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39"/>
            <p:cNvSpPr/>
            <p:nvPr/>
          </p:nvSpPr>
          <p:spPr>
            <a:xfrm>
              <a:off x="4497840" y="617112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40"/>
            <p:cNvSpPr/>
            <p:nvPr/>
          </p:nvSpPr>
          <p:spPr>
            <a:xfrm>
              <a:off x="4467240" y="6149520"/>
              <a:ext cx="2880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41"/>
            <p:cNvSpPr/>
            <p:nvPr/>
          </p:nvSpPr>
          <p:spPr>
            <a:xfrm>
              <a:off x="4486320" y="6095520"/>
              <a:ext cx="36720" cy="95760"/>
            </a:xfrm>
            <a:prstGeom prst="pie">
              <a:avLst/>
            </a:prstGeom>
            <a:noFill/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42"/>
            <p:cNvSpPr/>
            <p:nvPr/>
          </p:nvSpPr>
          <p:spPr>
            <a:xfrm>
              <a:off x="4486320" y="6094080"/>
              <a:ext cx="36720" cy="9684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243"/>
            <p:cNvSpPr/>
            <p:nvPr/>
          </p:nvSpPr>
          <p:spPr>
            <a:xfrm>
              <a:off x="4512240" y="6143400"/>
              <a:ext cx="31680" cy="44640"/>
            </a:xfrm>
            <a:prstGeom prst="pie">
              <a:avLst/>
            </a:prstGeom>
            <a:noFill/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244"/>
            <p:cNvSpPr/>
            <p:nvPr/>
          </p:nvSpPr>
          <p:spPr>
            <a:xfrm>
              <a:off x="4523400" y="6141960"/>
              <a:ext cx="23760" cy="4608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245"/>
            <p:cNvSpPr/>
            <p:nvPr/>
          </p:nvSpPr>
          <p:spPr>
            <a:xfrm>
              <a:off x="4537440" y="6189480"/>
              <a:ext cx="2412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246"/>
            <p:cNvSpPr/>
            <p:nvPr/>
          </p:nvSpPr>
          <p:spPr>
            <a:xfrm>
              <a:off x="4512240" y="6179040"/>
              <a:ext cx="2520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247"/>
            <p:cNvSpPr/>
            <p:nvPr/>
          </p:nvSpPr>
          <p:spPr>
            <a:xfrm>
              <a:off x="4512240" y="617724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248"/>
            <p:cNvSpPr/>
            <p:nvPr/>
          </p:nvSpPr>
          <p:spPr>
            <a:xfrm>
              <a:off x="4504320" y="6191280"/>
              <a:ext cx="27000" cy="35280"/>
            </a:xfrm>
            <a:prstGeom prst="pie">
              <a:avLst/>
            </a:prstGeom>
            <a:noFill/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249"/>
            <p:cNvSpPr/>
            <p:nvPr/>
          </p:nvSpPr>
          <p:spPr>
            <a:xfrm>
              <a:off x="4502520" y="6191280"/>
              <a:ext cx="30240" cy="367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250"/>
            <p:cNvSpPr/>
            <p:nvPr/>
          </p:nvSpPr>
          <p:spPr>
            <a:xfrm>
              <a:off x="4550400" y="6094080"/>
              <a:ext cx="25200" cy="47880"/>
            </a:xfrm>
            <a:prstGeom prst="pie">
              <a:avLst/>
            </a:prstGeom>
            <a:noFill/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251"/>
            <p:cNvSpPr/>
            <p:nvPr/>
          </p:nvSpPr>
          <p:spPr>
            <a:xfrm>
              <a:off x="4550400" y="6094080"/>
              <a:ext cx="25200" cy="4788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252"/>
            <p:cNvSpPr/>
            <p:nvPr/>
          </p:nvSpPr>
          <p:spPr>
            <a:xfrm flipH="1">
              <a:off x="4955400" y="1978920"/>
              <a:ext cx="13024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253"/>
            <p:cNvSpPr/>
            <p:nvPr/>
          </p:nvSpPr>
          <p:spPr>
            <a:xfrm>
              <a:off x="3871080" y="2678760"/>
              <a:ext cx="711360" cy="198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254"/>
            <p:cNvSpPr/>
            <p:nvPr/>
          </p:nvSpPr>
          <p:spPr>
            <a:xfrm>
              <a:off x="3508920" y="3448080"/>
              <a:ext cx="9262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255"/>
            <p:cNvSpPr/>
            <p:nvPr/>
          </p:nvSpPr>
          <p:spPr>
            <a:xfrm>
              <a:off x="250920" y="2498400"/>
              <a:ext cx="384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Times New Roman"/>
                </a:rPr>
                <a:t>РЕСПИРАТОРНИ ПОРЕМЕЋАЈ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256"/>
            <p:cNvSpPr/>
            <p:nvPr/>
          </p:nvSpPr>
          <p:spPr>
            <a:xfrm>
              <a:off x="250920" y="3238200"/>
              <a:ext cx="346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Times New Roman"/>
                </a:rPr>
                <a:t>ХОРМОНСКИ ПОРЕМЕЋАЈ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257"/>
            <p:cNvSpPr/>
            <p:nvPr/>
          </p:nvSpPr>
          <p:spPr>
            <a:xfrm>
              <a:off x="6164640" y="1838880"/>
              <a:ext cx="2315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Times New Roman"/>
                </a:rPr>
                <a:t>СЛУШНИ АПАРА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258"/>
            <p:cNvSpPr/>
            <p:nvPr/>
          </p:nvSpPr>
          <p:spPr>
            <a:xfrm flipH="1">
              <a:off x="4795560" y="2850120"/>
              <a:ext cx="1422360" cy="10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259"/>
            <p:cNvSpPr/>
            <p:nvPr/>
          </p:nvSpPr>
          <p:spPr>
            <a:xfrm>
              <a:off x="313560" y="1700280"/>
              <a:ext cx="2609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Times New Roman"/>
                </a:rPr>
                <a:t>ПОРЕМЕЋАЈИ ЦНС-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Line 260"/>
            <p:cNvSpPr/>
            <p:nvPr/>
          </p:nvSpPr>
          <p:spPr>
            <a:xfrm>
              <a:off x="2713320" y="1909800"/>
              <a:ext cx="17366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3"/>
          <p:cNvSpPr/>
          <p:nvPr/>
        </p:nvSpPr>
        <p:spPr>
          <a:xfrm>
            <a:off x="685800" y="404640"/>
            <a:ext cx="82296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лушна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аурикуларна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) оштећ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д слушних оштећења, као последица утицаја буке, најчешће се јављ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сећај притиска у уш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мањена чујност шапата и звукова високих фрекфенција све до губитка слух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убитак слуха се најчешће јавља на фрекфенцијама од 3500 до 5000 Hz и најчешће је последица изложености буци на радном мес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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зложеност буци ван радног места изазива удружене слушне са ванслушним ефект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3"/>
          <p:cNvSpPr/>
          <p:nvPr/>
        </p:nvSpPr>
        <p:spPr>
          <a:xfrm>
            <a:off x="684360" y="476280"/>
            <a:ext cx="792468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. Ванслушна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екстрааурикуларна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) оштећ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ред директног механичког утицаја буке, које се среће само код изузетно јаке буке, остали утицаји на човечији организам се могу објаснити повећаном стимулацијом вегетативног нервног система (симпатикуса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и јачини буке преко 60 dB, а посебно преко 80 dB брзо се јављају симптоми повећаног тонуса симпатикуса. Што је интензитет буке већи симптоми су израженији и јављају се у краћем времену после почетка излагањ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3"/>
          <p:cNvSpPr/>
          <p:nvPr/>
        </p:nvSpPr>
        <p:spPr>
          <a:xfrm>
            <a:off x="685800" y="476280"/>
            <a:ext cx="792468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. Ванслушна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екстрааурикуларна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) оштећ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Надражај симпатикуса изазив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грч артерио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раст крвног притиска нарочито дијастолн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ад ударног волумена ср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мањење периферне циркула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ремећај дисања, покрета црева, функције централног нервног система, целокупног метабол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ремећаја лучења надбубрежних жлезди, панкреаса, хипофиз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3"/>
          <p:cNvSpPr/>
          <p:nvPr/>
        </p:nvSpPr>
        <p:spPr>
          <a:xfrm>
            <a:off x="685800" y="2146320"/>
            <a:ext cx="7924680" cy="42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. Ванслушна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екстра</a:t>
            </a:r>
            <a:r>
              <a:rPr b="0" i="1" lang="sr-C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урикуларна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) оштећ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имптоми који се најчешће јављају с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м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аздражљив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сан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2"/>
          <p:cNvSpPr/>
          <p:nvPr/>
        </p:nvSpPr>
        <p:spPr>
          <a:xfrm>
            <a:off x="0" y="72720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ОЗВОЉЕНИ НИВО БУКЕ У ЖИВОТНОЈ СРЕДИ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3"/>
          <p:cNvSpPr/>
          <p:nvPr/>
        </p:nvSpPr>
        <p:spPr>
          <a:xfrm>
            <a:off x="684360" y="2708280"/>
            <a:ext cx="3429000" cy="40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рсте зо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тамбене зграде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боравишне просторије-затворен просто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з извора у згра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з извора ван згра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4"/>
          <p:cNvSpPr/>
          <p:nvPr/>
        </p:nvSpPr>
        <p:spPr>
          <a:xfrm>
            <a:off x="4343400" y="2254320"/>
            <a:ext cx="4800600" cy="41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озвољени ниво буке у dB(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ан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Но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5                                           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                                            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2"/>
          <p:cNvSpPr/>
          <p:nvPr/>
        </p:nvSpPr>
        <p:spPr>
          <a:xfrm>
            <a:off x="762120" y="7272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ЗВОЉЕНИ НИВО БУКЕ У ЖИВОТНОЈ СРЕД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3"/>
          <p:cNvSpPr/>
          <p:nvPr/>
        </p:nvSpPr>
        <p:spPr>
          <a:xfrm>
            <a:off x="312840" y="2133720"/>
            <a:ext cx="370044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Врст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зо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Јавн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друг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бјект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затворен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розор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1.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Болниц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клиник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домов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здрављ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болесничк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об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рдин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перацион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бло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бе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едицинск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пре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4"/>
          <p:cNvSpPr/>
          <p:nvPr/>
        </p:nvSpPr>
        <p:spPr>
          <a:xfrm>
            <a:off x="4343400" y="1413000"/>
            <a:ext cx="480060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Дозвољен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нив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бук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dB(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Да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Но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5                                                  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                                                   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5                                                   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2"/>
          <p:cNvSpPr/>
          <p:nvPr/>
        </p:nvSpPr>
        <p:spPr>
          <a:xfrm>
            <a:off x="762120" y="7272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ЗВОЉЕНИ НИВО БУКЕ У ЖИВОТНОЈ СРЕД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"/>
          <p:cNvSpPr/>
          <p:nvPr/>
        </p:nvSpPr>
        <p:spPr>
          <a:xfrm>
            <a:off x="785880" y="1500120"/>
            <a:ext cx="3276360" cy="51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Врст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зо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Јавн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друг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бјект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sr-CS" sz="2400" spc="-1" strike="noStrike">
                <a:solidFill>
                  <a:srgbClr val="000000"/>
                </a:solidFill>
                <a:latin typeface="Times New Roman"/>
              </a:rPr>
              <a:t>затворени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sr-CS" sz="2400" spc="-1" strike="noStrike">
                <a:solidFill>
                  <a:srgbClr val="000000"/>
                </a:solidFill>
                <a:latin typeface="Times New Roman"/>
              </a:rPr>
              <a:t>прозор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2.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росториј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дмо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дец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ченик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паваћ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об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домов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борава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тари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лиц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ензион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зво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згра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зво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ва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згра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4325760" y="1484280"/>
            <a:ext cx="4800600" cy="39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Дозвољен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нив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бук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dB(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Да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Но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5                                                  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                                                   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2"/>
          <p:cNvSpPr/>
          <p:nvPr/>
        </p:nvSpPr>
        <p:spPr>
          <a:xfrm>
            <a:off x="762120" y="7272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ЗВОЉЕНИ НИВО БУКЕ У ЖИВОТНОЈ СРЕД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3"/>
          <p:cNvSpPr/>
          <p:nvPr/>
        </p:nvSpPr>
        <p:spPr>
          <a:xfrm>
            <a:off x="838080" y="1981080"/>
            <a:ext cx="327672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рсте зо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Јавни и други објек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затворени прозор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3. Просторије за васпитно-образовни рад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учионице, слушаонице, кабинет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, биоскопи и библиоте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4"/>
          <p:cNvSpPr/>
          <p:nvPr/>
        </p:nvSpPr>
        <p:spPr>
          <a:xfrm>
            <a:off x="4370400" y="1990800"/>
            <a:ext cx="480060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озвољени ниво буке у dB(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ан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Но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                                                   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2"/>
          <p:cNvSpPr/>
          <p:nvPr/>
        </p:nvSpPr>
        <p:spPr>
          <a:xfrm>
            <a:off x="762120" y="7272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ЗВОЉЕНИ НИВО БУКЕ У ЖИВОТНОЈ СРЕД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3"/>
          <p:cNvSpPr/>
          <p:nvPr/>
        </p:nvSpPr>
        <p:spPr>
          <a:xfrm>
            <a:off x="838080" y="1981080"/>
            <a:ext cx="327672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рсте зо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Јавни и други објек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затворени прозор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4. Позоришне и концертне са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5. Хотелске соб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звор у згра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звор ван згра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4"/>
          <p:cNvSpPr/>
          <p:nvPr/>
        </p:nvSpPr>
        <p:spPr>
          <a:xfrm>
            <a:off x="4316400" y="1557360"/>
            <a:ext cx="4800600" cy="49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озвољени ниво буке у dB(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ан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Но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                                                  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5                                                  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                                                   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3"/>
          <p:cNvSpPr/>
          <p:nvPr/>
        </p:nvSpPr>
        <p:spPr>
          <a:xfrm>
            <a:off x="539640" y="765000"/>
            <a:ext cx="792000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1" i="1" lang="sr-CS" sz="2400" spc="-1" strike="noStrike">
                <a:solidFill>
                  <a:srgbClr val="000000"/>
                </a:solidFill>
                <a:latin typeface="Times New Roman"/>
              </a:rPr>
              <a:t>ука у животној средини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јесте нежељен или штетан звук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звор бук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је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те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сваки емитер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ежељеног или штетног звука. Т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може да буде сваки уређај, средство за рад, саобраћајно средство, инсталација постројења, технолошки поступак, електроакустички уређај, људска активност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Изворима звука сматрају се покретни и непокретни објекти који под одређеним околностима генеришу звук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а такође и отворени и затворени простори за спорт, игру, плес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представе, концерте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слуш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ањ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е музике и сл. као и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гоститељски објекти,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гараже, паркинг простори и др.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2"/>
          <p:cNvSpPr/>
          <p:nvPr/>
        </p:nvSpPr>
        <p:spPr>
          <a:xfrm>
            <a:off x="762120" y="7272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ЗВОЉЕНИ НИВО БУКЕ У ЖИВОТНОЈ СРЕД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3"/>
          <p:cNvSpPr/>
          <p:nvPr/>
        </p:nvSpPr>
        <p:spPr>
          <a:xfrm>
            <a:off x="838080" y="1981080"/>
            <a:ext cx="350532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рсте зо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Зоне насељ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тамб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словно-стамбена и трговачко-стамбена, дечија игралиш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Школска, туристичка, сео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4343400" y="1981080"/>
            <a:ext cx="4800600" cy="42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озвољени ниво буке у dB(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ан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Но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5                                                   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0                                                   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                                                   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2"/>
          <p:cNvSpPr/>
          <p:nvPr/>
        </p:nvSpPr>
        <p:spPr>
          <a:xfrm>
            <a:off x="762120" y="7272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ЗВОЉЕНИ НИВО БУКЕ У ЖИВОТНОЈ СРЕД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3"/>
          <p:cNvSpPr/>
          <p:nvPr/>
        </p:nvSpPr>
        <p:spPr>
          <a:xfrm>
            <a:off x="762120" y="1905120"/>
            <a:ext cx="350496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рсте зо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Зоне насељ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еленила, одмора и рекреације, болничка, викенд насељ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радски цент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ндустријска без стамбених згра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4"/>
          <p:cNvSpPr/>
          <p:nvPr/>
        </p:nvSpPr>
        <p:spPr>
          <a:xfrm>
            <a:off x="4343400" y="1981080"/>
            <a:ext cx="4800600" cy="49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озвољени ниво буке у dB(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ан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Но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                                                   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5                                                   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                                                   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2"/>
          <p:cNvSpPr/>
          <p:nvPr/>
        </p:nvSpPr>
        <p:spPr>
          <a:xfrm>
            <a:off x="762120" y="727200"/>
            <a:ext cx="565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ВРСТЕ БУ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Group 3"/>
          <p:cNvGrpSpPr/>
          <p:nvPr/>
        </p:nvGrpSpPr>
        <p:grpSpPr>
          <a:xfrm>
            <a:off x="755640" y="1700280"/>
            <a:ext cx="8064360" cy="4503240"/>
            <a:chOff x="755640" y="1700280"/>
            <a:chExt cx="8064360" cy="4503240"/>
          </a:xfrm>
        </p:grpSpPr>
        <p:sp>
          <p:nvSpPr>
            <p:cNvPr id="359" name="Text Box 4"/>
            <p:cNvSpPr/>
            <p:nvPr/>
          </p:nvSpPr>
          <p:spPr>
            <a:xfrm>
              <a:off x="3714840" y="1700280"/>
              <a:ext cx="164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800" spc="-1" strike="noStrike">
                  <a:solidFill>
                    <a:srgbClr val="000000"/>
                  </a:solidFill>
                  <a:latin typeface="Times New Roman"/>
                </a:rPr>
                <a:t>БУК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5"/>
            <p:cNvSpPr/>
            <p:nvPr/>
          </p:nvSpPr>
          <p:spPr>
            <a:xfrm>
              <a:off x="755640" y="2205000"/>
              <a:ext cx="2232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000" spc="-1" strike="noStrike">
                  <a:solidFill>
                    <a:srgbClr val="000000"/>
                  </a:solidFill>
                  <a:latin typeface="Times New Roman"/>
                </a:rPr>
                <a:t>БУКА ПРИРОДЕ без утицаја чове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 Box 6"/>
            <p:cNvSpPr/>
            <p:nvPr/>
          </p:nvSpPr>
          <p:spPr>
            <a:xfrm>
              <a:off x="5651640" y="2133720"/>
              <a:ext cx="2736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000" spc="-1" strike="noStrike">
                  <a:solidFill>
                    <a:srgbClr val="000000"/>
                  </a:solidFill>
                  <a:latin typeface="Times New Roman"/>
                </a:rPr>
                <a:t>БУКА КОЈУ СТВАРА ЧОВЕ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7"/>
            <p:cNvSpPr/>
            <p:nvPr/>
          </p:nvSpPr>
          <p:spPr>
            <a:xfrm>
              <a:off x="755640" y="3193920"/>
              <a:ext cx="3311640" cy="30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000" spc="-1" strike="noStrike">
                  <a:solidFill>
                    <a:srgbClr val="000000"/>
                  </a:solidFill>
                  <a:latin typeface="Times New Roman"/>
                </a:rPr>
                <a:t>БУКА У РАДНОЈ СРЕДИН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000" spc="-1" strike="noStrike">
                  <a:solidFill>
                    <a:srgbClr val="000000"/>
                  </a:solidFill>
                  <a:latin typeface="Times New Roman"/>
                </a:rPr>
                <a:t>оруђа на радном мест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000" spc="-1" strike="noStrike">
                  <a:solidFill>
                    <a:srgbClr val="000000"/>
                  </a:solidFill>
                  <a:latin typeface="Times New Roman"/>
                </a:rPr>
                <a:t>оруђа са других радних мест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000" spc="-1" strike="noStrike">
                  <a:solidFill>
                    <a:srgbClr val="000000"/>
                  </a:solidFill>
                  <a:latin typeface="Times New Roman"/>
                </a:rPr>
                <a:t>непроизводних извора (саобраћај, вентилација и др.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8"/>
            <p:cNvSpPr/>
            <p:nvPr/>
          </p:nvSpPr>
          <p:spPr>
            <a:xfrm>
              <a:off x="4859280" y="3141720"/>
              <a:ext cx="3960720" cy="28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000" spc="-1" strike="noStrike">
                  <a:solidFill>
                    <a:srgbClr val="000000"/>
                  </a:solidFill>
                  <a:latin typeface="Times New Roman"/>
                </a:rPr>
                <a:t>БУКА У ЖИВОТНОЈ СРЕДИНИ (КОМУНАЛНА БУКА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000" spc="-1" strike="noStrike">
                  <a:solidFill>
                    <a:srgbClr val="000000"/>
                  </a:solidFill>
                  <a:latin typeface="Times New Roman"/>
                </a:rPr>
                <a:t>у кућ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000" spc="-1" strike="noStrike">
                  <a:solidFill>
                    <a:srgbClr val="000000"/>
                  </a:solidFill>
                  <a:latin typeface="Times New Roman"/>
                </a:rPr>
                <a:t>саобраћа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000" spc="-1" strike="noStrike">
                  <a:solidFill>
                    <a:srgbClr val="000000"/>
                  </a:solidFill>
                  <a:latin typeface="Times New Roman"/>
                </a:rPr>
                <a:t>индустријска постројењ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000" spc="-1" strike="noStrike">
                  <a:solidFill>
                    <a:srgbClr val="000000"/>
                  </a:solidFill>
                  <a:latin typeface="Times New Roman"/>
                </a:rPr>
                <a:t>уличн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Line 9"/>
            <p:cNvSpPr/>
            <p:nvPr/>
          </p:nvSpPr>
          <p:spPr>
            <a:xfrm flipH="1">
              <a:off x="2771280" y="1989000"/>
              <a:ext cx="863640" cy="28764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10"/>
            <p:cNvSpPr/>
            <p:nvPr/>
          </p:nvSpPr>
          <p:spPr>
            <a:xfrm>
              <a:off x="4932360" y="1989000"/>
              <a:ext cx="792000" cy="2160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11"/>
            <p:cNvSpPr/>
            <p:nvPr/>
          </p:nvSpPr>
          <p:spPr>
            <a:xfrm flipH="1">
              <a:off x="3058920" y="2708280"/>
              <a:ext cx="2592360" cy="5763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12"/>
            <p:cNvSpPr/>
            <p:nvPr/>
          </p:nvSpPr>
          <p:spPr>
            <a:xfrm>
              <a:off x="6948360" y="2852640"/>
              <a:ext cx="0" cy="2890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2"/>
          <p:cNvSpPr/>
          <p:nvPr/>
        </p:nvSpPr>
        <p:spPr>
          <a:xfrm>
            <a:off x="611280" y="54936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МЕРЕ ЗАШТИТЕ ОД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БУКЕ У ЖИВОТНОЈ СРЕДИ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3"/>
          <p:cNvSpPr/>
          <p:nvPr/>
        </p:nvSpPr>
        <p:spPr>
          <a:xfrm>
            <a:off x="468360" y="4451400"/>
            <a:ext cx="230328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ФИЗИОЛОШ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-контракција мишић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-неуролошки феномен одбр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-адапта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2700360" y="2133720"/>
            <a:ext cx="374328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ТЕХНИЧКОТЕХНОЛОШ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-смањење на извор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-смањење преноше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-смањење на месту прије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-лична зашти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-промена процеса ра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6227640" y="3933720"/>
            <a:ext cx="280836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ПРАВНО СОЦИЈАЛ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-пропис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-норме и стандар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-одлу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-жалб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-пети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6"/>
          <p:cNvSpPr/>
          <p:nvPr/>
        </p:nvSpPr>
        <p:spPr>
          <a:xfrm flipH="1">
            <a:off x="1186920" y="1916280"/>
            <a:ext cx="1513080" cy="23047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7"/>
          <p:cNvSpPr/>
          <p:nvPr/>
        </p:nvSpPr>
        <p:spPr>
          <a:xfrm>
            <a:off x="6588000" y="1773360"/>
            <a:ext cx="1152720" cy="20160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8"/>
          <p:cNvSpPr/>
          <p:nvPr/>
        </p:nvSpPr>
        <p:spPr>
          <a:xfrm>
            <a:off x="4500720" y="1628640"/>
            <a:ext cx="0" cy="5050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2"/>
          <p:cNvSpPr/>
          <p:nvPr/>
        </p:nvSpPr>
        <p:spPr>
          <a:xfrm>
            <a:off x="611280" y="54936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МЕРЕ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ЗАШТИТЕ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БУК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ЖИВОТНОЈ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СРЕДИ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3"/>
          <p:cNvSpPr/>
          <p:nvPr/>
        </p:nvSpPr>
        <p:spPr>
          <a:xfrm>
            <a:off x="539640" y="1773360"/>
            <a:ext cx="79916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ФИЗИОЛОШКЕ МЕРЕ ЗАШТИТЕ ОД БУ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у промене физичких карактеристика средњег уха и неуролошки феномени адаптације и зам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од дејством буке настаје контракција мишића средњег уха и смањење преноса звука према унутрашњем ух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ријемом првих информација о звуку центри у ЦНС-у смањују осетљивост чула. Настаје слушна адаптација или слушни зам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2"/>
          <p:cNvSpPr/>
          <p:nvPr/>
        </p:nvSpPr>
        <p:spPr>
          <a:xfrm>
            <a:off x="611280" y="54936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МЕРЕ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ЗАШТИТЕ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БУК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ЖИВОТНОЈ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СРЕДИ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3"/>
          <p:cNvSpPr/>
          <p:nvPr/>
        </p:nvSpPr>
        <p:spPr>
          <a:xfrm>
            <a:off x="611280" y="2060640"/>
            <a:ext cx="7848360" cy="43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ТЕХНИЧКОТЕХНОЛОШ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Су мере које отклањају буку н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Изво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путањи између извора и пријем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месту пријема зву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2"/>
          <p:cNvSpPr/>
          <p:nvPr/>
        </p:nvSpPr>
        <p:spPr>
          <a:xfrm>
            <a:off x="611280" y="18900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Times New Roman"/>
              </a:rPr>
              <a:t>МЕРЕ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</a:rPr>
              <a:t>ЗАШТИТЕ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</a:rPr>
              <a:t>ОД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</a:rPr>
              <a:t>БУКЕ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</a:rPr>
              <a:t>У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</a:rPr>
              <a:t>ЖИВОТНОЈ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</a:rPr>
              <a:t>СРЕДИ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3"/>
          <p:cNvSpPr/>
          <p:nvPr/>
        </p:nvSpPr>
        <p:spPr>
          <a:xfrm>
            <a:off x="468360" y="1413000"/>
            <a:ext cx="8281800" cy="51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00"/>
                </a:solidFill>
                <a:latin typeface="Times New Roman"/>
              </a:rPr>
              <a:t>ТЕХНИЧКОТЕХНОЛОШ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Times New Roman"/>
              </a:rPr>
              <a:t>Звучна заштита на извору буке се постиже: смањењем побудних сила, пригушењем елемената на које делују побудне силе, променом режима, начина и принципа рада изв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Times New Roman"/>
              </a:rPr>
              <a:t>Звучна заштита на путањи звука за изворе на отвореном простору обухвата: урбанистичка и архитектонска решење постављања извора, коришћење акустичких заклона, пројектовање улица и простора, распоред просторија, врата, прозора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Calibri"/>
              </a:rPr>
              <a:t>Звучна заштита на путањи звука за изворе на затвореном простору обухвата: избор места за лоцирање извора, груписање бучних и тихих просторија, звучну заштиту инсталација, избор грађевинских елемената, зидова, међуспратних конструкција и д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Calibri"/>
              </a:rPr>
              <a:t>Звучна заштита на месту пријема звука подразумева заштиту човека (лична заштитна средств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1749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Calibri"/>
              </a:rPr>
              <a:t>чепови (пригушују буку за 10-15 </a:t>
            </a: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dB</a:t>
            </a:r>
            <a:r>
              <a:rPr b="1" lang="sr-CS" sz="2800" spc="-1" strike="noStrike">
                <a:solidFill>
                  <a:srgbClr val="ffff00"/>
                </a:solidFill>
                <a:latin typeface="Calibri"/>
              </a:rPr>
              <a:t>)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1749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Calibri"/>
              </a:rPr>
              <a:t>наушнице (пригушују буку за 25-30 </a:t>
            </a: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dB</a:t>
            </a:r>
            <a:r>
              <a:rPr b="1" lang="sr-CS" sz="2800" spc="-1" strike="noStrike">
                <a:solidFill>
                  <a:srgbClr val="ffff00"/>
                </a:solidFill>
                <a:latin typeface="Calibri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1749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Calibri"/>
              </a:rPr>
              <a:t>шлемови (пригушују буку до 40 </a:t>
            </a: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dB</a:t>
            </a:r>
            <a:r>
              <a:rPr b="1" lang="sr-CS" sz="2800" spc="-1" strike="noStrike">
                <a:solidFill>
                  <a:srgbClr val="ffff00"/>
                </a:solidFill>
                <a:latin typeface="Calibri"/>
              </a:rPr>
              <a:t>)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Calibri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1749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Calibri"/>
              </a:rPr>
              <a:t>одела (пригушују буку преко 40 </a:t>
            </a: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dB</a:t>
            </a:r>
            <a:r>
              <a:rPr b="1" lang="sr-CS" sz="2800" spc="-1" strike="noStrike">
                <a:solidFill>
                  <a:srgbClr val="ffff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2"/>
          <p:cNvSpPr/>
          <p:nvPr/>
        </p:nvSpPr>
        <p:spPr>
          <a:xfrm>
            <a:off x="611280" y="54936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Times New Roman"/>
              </a:rPr>
              <a:t>МЕРЕ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</a:rPr>
              <a:t>ЗАШТИТЕ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</a:rPr>
              <a:t>ОД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</a:rPr>
              <a:t>БУКЕ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</a:rPr>
              <a:t>У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</a:rPr>
              <a:t>ЖИВОТНОЈ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</a:rPr>
              <a:t>СРЕДИ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3"/>
          <p:cNvSpPr/>
          <p:nvPr/>
        </p:nvSpPr>
        <p:spPr>
          <a:xfrm>
            <a:off x="611280" y="1989000"/>
            <a:ext cx="77040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ПРАВНО СОЦИЈАЛ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Нормативи, стандарди и законски прописи претварају важећа научна и стручна знања и сазнања у законске прописе, како би друштво обезбедило њихову примену и омогућило заштиту од бу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Они обухватају и део казни над онима који их не поштују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3"/>
          <p:cNvSpPr/>
          <p:nvPr/>
        </p:nvSpPr>
        <p:spPr>
          <a:xfrm>
            <a:off x="108000" y="115920"/>
            <a:ext cx="9036000" cy="86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Штетни ефекти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јесу негативни утицаји буке на здравље људи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и животну средин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Узнемиравањ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јесте степен ометања људи буком, који се утврђује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испитивањем на лицу места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прописаним методама проце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Индикатор буке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јесте физичка величина којом се описује бука у животној средини, а везана је за штетни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ефекат буке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Процена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јесте метод који се користи за израчунавање, предвиђање или мерење индикатора буке или одговарајућих штетних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ефекат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 буке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2"/>
          <p:cNvSpPr/>
          <p:nvPr/>
        </p:nvSpPr>
        <p:spPr>
          <a:xfrm>
            <a:off x="1295280" y="2712960"/>
            <a:ext cx="6400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БУ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Методологија мерењ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 Box 2"/>
          <p:cNvSpPr/>
          <p:nvPr/>
        </p:nvSpPr>
        <p:spPr>
          <a:xfrm>
            <a:off x="685800" y="7160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БУКА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МЕРЕЊЕ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3"/>
          <p:cNvSpPr/>
          <p:nvPr/>
        </p:nvSpPr>
        <p:spPr>
          <a:xfrm>
            <a:off x="755640" y="1341360"/>
            <a:ext cx="7561440" cy="53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ЕТОДЕ КОЈИМА СЕ МЕРИ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БУКА ЗАВИСЕ ОД ЦИЉА МЕРЕЊ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Оне пружају податке погодне за оцену нивоа буке и процену могућих утицај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У основи постоје два начина мерења бук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1. ОБЈЕКТИВ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Је одређивање и праћење физичких параметара репрезентативних за ниво буке у средини у којој се она јављ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2. СУБЈЕКТИВ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Омогућава процену ометајућег и штетног утицаја. Подразумева директну реакцију човека на физичко стање средине у којој влада бука одређених карактерист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2"/>
          <p:cNvSpPr/>
          <p:nvPr/>
        </p:nvSpPr>
        <p:spPr>
          <a:xfrm>
            <a:off x="685800" y="716040"/>
            <a:ext cx="784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БУКА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ОБЈЕКТИВНО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МЕРЕЊЕ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3"/>
          <p:cNvSpPr/>
          <p:nvPr/>
        </p:nvSpPr>
        <p:spPr>
          <a:xfrm>
            <a:off x="755640" y="1700280"/>
            <a:ext cx="7561440" cy="48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БЈЕКТИВН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ЕРЕЊ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БУК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бављ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потребо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различитих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типов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фонометар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звукомер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онометар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шумомер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тд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.)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агнетофоно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исаче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др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Фонометр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рад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ринцип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ретварањ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звучн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енергиј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електричн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Врст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фонометар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тандардн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фономет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фонометр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ерењ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бук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радној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животној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ред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2"/>
          <p:cNvSpPr/>
          <p:nvPr/>
        </p:nvSpPr>
        <p:spPr>
          <a:xfrm>
            <a:off x="685800" y="716040"/>
            <a:ext cx="784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БУКА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ОБЈЕКТИВНО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МЕРЕЊЕ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3"/>
          <p:cNvSpPr/>
          <p:nvPr/>
        </p:nvSpPr>
        <p:spPr>
          <a:xfrm>
            <a:off x="755640" y="2187720"/>
            <a:ext cx="7561440" cy="40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СТАНДАРДНИ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ФОНОМЕТАР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састоји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микрофон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нискофрекфентног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појачивач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атенуатор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детектор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инструмент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баждареног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децибелим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Конструисан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тако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д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мерењ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могу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изводити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било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ком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месту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било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којим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временским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приликам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Потребно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само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одабрати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одговарајући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филтер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сензор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укључити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апарат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Динамичко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подручј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фонометр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велико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обухват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опсег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26-14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B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2"/>
          <p:cNvSpPr/>
          <p:nvPr/>
        </p:nvSpPr>
        <p:spPr>
          <a:xfrm>
            <a:off x="685800" y="716040"/>
            <a:ext cx="784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БУКА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ОБЈЕКТИВНО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МЕРЕЊЕ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3"/>
          <p:cNvSpPr/>
          <p:nvPr/>
        </p:nvSpPr>
        <p:spPr>
          <a:xfrm>
            <a:off x="755640" y="1844640"/>
            <a:ext cx="75614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ФОНОМЕТАР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кој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луж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ерењ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бук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радној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животној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редин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једноставниј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тандардног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фонометр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луж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рутинск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ерењ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ндустријск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комуналн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бук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ер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ив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бук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ужено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динамичко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одручј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60-14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B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шт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довољн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рактичн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врх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итуациј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кој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јављај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терен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3"/>
          <p:cNvSpPr/>
          <p:nvPr/>
        </p:nvSpPr>
        <p:spPr>
          <a:xfrm>
            <a:off x="103320" y="333360"/>
            <a:ext cx="8785080" cy="64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БУК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СТАНОВИМ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јавни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други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бјектим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ер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вакој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росториј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једно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ест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т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даљеност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зидов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, 1,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розор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висин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1,2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д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1,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од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кад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розор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врат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затворен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БУК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ЖИВОТНОЈ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РЕДИН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ер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висин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1,2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д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1,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овршин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тере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даљеност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ајмањ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3,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зидов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бјекат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ак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т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дозвољавај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слов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зонам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зеленил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дмор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рекреациј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ка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зонам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културн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сторијских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локалитет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тамбени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школски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болнички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сторијски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ајмањ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број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ерних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ест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5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т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равномерн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распоређених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административн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правни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ндустријски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зонам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тамбени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зградам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ерењ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бављ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ајмањ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10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ерних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ест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равномерн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распоређених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2"/>
          <p:cNvSpPr/>
          <p:nvPr/>
        </p:nvSpPr>
        <p:spPr>
          <a:xfrm>
            <a:off x="685800" y="716040"/>
            <a:ext cx="784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БУКА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ОБЈЕКТИВНО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МЕРЕЊЕ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3"/>
          <p:cNvSpPr/>
          <p:nvPr/>
        </p:nvSpPr>
        <p:spPr>
          <a:xfrm>
            <a:off x="684360" y="1916280"/>
            <a:ext cx="7561080" cy="437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ЕРН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НТЕРВАЛ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дређуј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рем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тип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бук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лучај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роменљув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бук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ив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ер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ајмањ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тр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ут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ток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да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дв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ут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токо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оћ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аксималн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ерн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нтервал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Дан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6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д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2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оћ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22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д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2"/>
          <p:cNvSpPr/>
          <p:nvPr/>
        </p:nvSpPr>
        <p:spPr>
          <a:xfrm>
            <a:off x="685800" y="716040"/>
            <a:ext cx="784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БУКА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ОБЈЕКТИВНО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МЕРЕЊЕ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"/>
          <p:cNvSpPr/>
          <p:nvPr/>
        </p:nvSpPr>
        <p:spPr>
          <a:xfrm>
            <a:off x="684360" y="1916280"/>
            <a:ext cx="7561080" cy="43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БРЗИ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ЗИМАЊ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ЗОРАК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ојединачних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ово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бук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шири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класног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нтервал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трајањ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зимањ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зорак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завис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карактер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трајањ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бук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репоручуј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ледећ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вредност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брзин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10, 5, 2, 1, 0,5, 0,2, 0,1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екун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ширин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2, 3, 4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л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5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B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Трајањ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ерењ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треб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д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бухват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читав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циклус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роме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иво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осматран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бук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2"/>
          <p:cNvSpPr/>
          <p:nvPr/>
        </p:nvSpPr>
        <p:spPr>
          <a:xfrm>
            <a:off x="685800" y="716040"/>
            <a:ext cx="784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БУКА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СУБЈЕКТИВНО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МЕРЕЊЕ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"/>
          <p:cNvSpPr/>
          <p:nvPr/>
        </p:nvSpPr>
        <p:spPr>
          <a:xfrm>
            <a:off x="684360" y="2098800"/>
            <a:ext cx="7561080" cy="43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МЕТОДЕ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КОЈЕ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КОРИСТ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СУБЈЕКТИВНО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МЕРЕЊ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БУК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ЗАСНОВАН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СУ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СУБЈЕКТИВНИМ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ПРОЦЕНАМ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НИВО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БУК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КОЈ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ПОТИЧ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ОСОБ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КОЈ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УЧЕСТВУЈУ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МЕРЕЊИМ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ЈАЧИН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БУК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мож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субјектино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мерити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упоређивањем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с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интензитетом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стандардног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тон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1000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Хз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добијеног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из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калибрисаног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Баркхаузеновог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фонометр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применом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говорних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критериј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2"/>
          <p:cNvSpPr/>
          <p:nvPr/>
        </p:nvSpPr>
        <p:spPr>
          <a:xfrm>
            <a:off x="685800" y="716040"/>
            <a:ext cx="784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БУКА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СУБЈЕКТИВНО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МЕРЕЊЕ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3"/>
          <p:cNvSpPr/>
          <p:nvPr/>
        </p:nvSpPr>
        <p:spPr>
          <a:xfrm>
            <a:off x="684360" y="1792440"/>
            <a:ext cx="8064360" cy="61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УБЈЕКТИВН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ЕРЕЊ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БУК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ЗАСНОВАН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поређивањ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нтензитето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тандардног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то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100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z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добијеног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з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калибрисаног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Баркхаузеновог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фонометр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Резултат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директн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читав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фонометр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редстављ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убјективн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јачин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звук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фоним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Д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оузданих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вредност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р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ерењ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во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етодо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долаз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ам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кад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ерењ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чествуј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виш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вежбаних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соб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Резултат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редњ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вредност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змерених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вредност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вих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соб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етод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веде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р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70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годи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данас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ретк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корист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3"/>
          <p:cNvSpPr/>
          <p:nvPr/>
        </p:nvSpPr>
        <p:spPr>
          <a:xfrm>
            <a:off x="611280" y="404640"/>
            <a:ext cx="7920000" cy="65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i="1" lang="sr-CS" sz="2400" spc="-1" strike="noStrike">
                <a:solidFill>
                  <a:srgbClr val="000000"/>
                </a:solidFill>
                <a:latin typeface="Times New Roman"/>
              </a:rPr>
              <a:t>кустичко зонирање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јесте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одређивање граничне вредности индикатора буке за различита подручја према њиховој намен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Израда стратешких карата буке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јесте представљање података о постојећим или процењеним нивоима буке, укључујући прекорачења прописаних граничних вредности, броја људи изложених буци на неком подручју или броја домаћинстава изложених одређеним вредностима индикатора буке на одређеном подручј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Стратешка карта буке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јесте карта која представља податке о нивоима буке на одређеном подручју и служи за процену укупне изложености буци одређеног подручја од различитих извора буке или за предвиђање укупн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буке на неком подручј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2"/>
          <p:cNvSpPr/>
          <p:nvPr/>
        </p:nvSpPr>
        <p:spPr>
          <a:xfrm>
            <a:off x="685800" y="716040"/>
            <a:ext cx="784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БУКА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СУБЈЕКТИВНО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МЕРЕЊЕ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3"/>
          <p:cNvSpPr/>
          <p:nvPr/>
        </p:nvSpPr>
        <p:spPr>
          <a:xfrm>
            <a:off x="684360" y="1990800"/>
            <a:ext cx="75610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УБЈЕКТИВН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ЕРЕЊ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БУК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ЗАСНОВАН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римен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говорних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критеријум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етод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астој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роцен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отребног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апор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р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говор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који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остиж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поразумевањ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редин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којој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влад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бук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в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груб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етод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2"/>
          <p:cNvSpPr/>
          <p:nvPr/>
        </p:nvSpPr>
        <p:spPr>
          <a:xfrm>
            <a:off x="685800" y="716040"/>
            <a:ext cx="784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БУКА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СУБЈЕКТИВНО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МЕРЕЊЕ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3"/>
          <p:cNvSpPr/>
          <p:nvPr/>
        </p:nvSpPr>
        <p:spPr>
          <a:xfrm>
            <a:off x="684360" y="1484280"/>
            <a:ext cx="75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ив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бук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бзиро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огућност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епосредног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поразумевањ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говоро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4"/>
          <p:cNvSpPr/>
          <p:nvPr/>
        </p:nvSpPr>
        <p:spPr>
          <a:xfrm>
            <a:off x="755640" y="6597720"/>
            <a:ext cx="77770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Group 5"/>
          <p:cNvGrpSpPr/>
          <p:nvPr/>
        </p:nvGrpSpPr>
        <p:grpSpPr>
          <a:xfrm>
            <a:off x="755640" y="2565360"/>
            <a:ext cx="7777080" cy="757800"/>
            <a:chOff x="755640" y="2565360"/>
            <a:chExt cx="7777080" cy="757800"/>
          </a:xfrm>
        </p:grpSpPr>
        <p:sp>
          <p:nvSpPr>
            <p:cNvPr id="409" name="Line 6"/>
            <p:cNvSpPr/>
            <p:nvPr/>
          </p:nvSpPr>
          <p:spPr>
            <a:xfrm>
              <a:off x="755640" y="2565360"/>
              <a:ext cx="777708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7"/>
            <p:cNvSpPr/>
            <p:nvPr/>
          </p:nvSpPr>
          <p:spPr>
            <a:xfrm>
              <a:off x="755640" y="3284640"/>
              <a:ext cx="777708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 Box 8"/>
            <p:cNvSpPr/>
            <p:nvPr/>
          </p:nvSpPr>
          <p:spPr>
            <a:xfrm>
              <a:off x="755640" y="2565360"/>
              <a:ext cx="115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000" spc="-1" strike="noStrike">
                  <a:solidFill>
                    <a:srgbClr val="000000"/>
                  </a:solidFill>
                  <a:latin typeface="Times New Roman"/>
                </a:rPr>
                <a:t>dB(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 Box 9"/>
            <p:cNvSpPr/>
            <p:nvPr/>
          </p:nvSpPr>
          <p:spPr>
            <a:xfrm>
              <a:off x="4356000" y="2565360"/>
              <a:ext cx="302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000" spc="-1" strike="noStrike">
                  <a:solidFill>
                    <a:srgbClr val="000000"/>
                  </a:solidFill>
                  <a:latin typeface="Times New Roman"/>
                </a:rPr>
                <a:t>Udaljenost u metri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 Box 10"/>
            <p:cNvSpPr/>
            <p:nvPr/>
          </p:nvSpPr>
          <p:spPr>
            <a:xfrm>
              <a:off x="2916360" y="2924280"/>
              <a:ext cx="244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000" spc="-1" strike="noStrike">
                  <a:solidFill>
                    <a:srgbClr val="000000"/>
                  </a:solidFill>
                  <a:latin typeface="Times New Roman"/>
                </a:rPr>
                <a:t>Normalan gov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11"/>
            <p:cNvSpPr/>
            <p:nvPr/>
          </p:nvSpPr>
          <p:spPr>
            <a:xfrm>
              <a:off x="6372360" y="2924280"/>
              <a:ext cx="187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000" spc="-1" strike="noStrike">
                  <a:solidFill>
                    <a:srgbClr val="000000"/>
                  </a:solidFill>
                  <a:latin typeface="Times New Roman"/>
                </a:rPr>
                <a:t>Glasan  gov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" name="Text Box 12"/>
          <p:cNvSpPr/>
          <p:nvPr/>
        </p:nvSpPr>
        <p:spPr>
          <a:xfrm>
            <a:off x="755640" y="3429000"/>
            <a:ext cx="936720" cy="32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7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3"/>
          <p:cNvSpPr/>
          <p:nvPr/>
        </p:nvSpPr>
        <p:spPr>
          <a:xfrm>
            <a:off x="3708360" y="3421080"/>
            <a:ext cx="1008000" cy="32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0,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0,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0,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0,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0,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4"/>
          <p:cNvSpPr/>
          <p:nvPr/>
        </p:nvSpPr>
        <p:spPr>
          <a:xfrm>
            <a:off x="6588000" y="3421080"/>
            <a:ext cx="1008360" cy="32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4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2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0,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0,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0,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0,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0,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2"/>
          <p:cNvSpPr/>
          <p:nvPr/>
        </p:nvSpPr>
        <p:spPr>
          <a:xfrm>
            <a:off x="611280" y="54936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ВИБРАЦИЈЕ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3"/>
          <p:cNvSpPr/>
          <p:nvPr/>
        </p:nvSpPr>
        <p:spPr>
          <a:xfrm>
            <a:off x="611280" y="1060560"/>
            <a:ext cx="8137440" cy="58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у механичка колебања у области инфразвука и делимично области звучне хрекфенциј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сновне величине које карактеришу вибрације с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амплиту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фрекфен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Човек прима вибрације кроз било коју рецептивну зону кож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ајосетљивија је кожа екстремитета (фаланге прстију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сетљивост на вибрације зависи од дневних колебања прага надражаја, а ово колебање зависи од функционалног стања коре великог мозга. Праг надражаја виши ујутру и увеч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2"/>
          <p:cNvSpPr/>
          <p:nvPr/>
        </p:nvSpPr>
        <p:spPr>
          <a:xfrm>
            <a:off x="611280" y="54936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ВИБРАЦИЈЕ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биолошко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дејство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3"/>
          <p:cNvSpPr/>
          <p:nvPr/>
        </p:nvSpPr>
        <p:spPr>
          <a:xfrm>
            <a:off x="611280" y="142416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Биолошк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дејств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вибрациј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Андрејев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Галани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Group 4"/>
          <p:cNvGrpSpPr/>
          <p:nvPr/>
        </p:nvGrpSpPr>
        <p:grpSpPr>
          <a:xfrm>
            <a:off x="684360" y="2133720"/>
            <a:ext cx="8207280" cy="4520160"/>
            <a:chOff x="684360" y="2133720"/>
            <a:chExt cx="8207280" cy="4520160"/>
          </a:xfrm>
        </p:grpSpPr>
        <p:sp>
          <p:nvSpPr>
            <p:cNvPr id="423" name="Line 5"/>
            <p:cNvSpPr/>
            <p:nvPr/>
          </p:nvSpPr>
          <p:spPr>
            <a:xfrm>
              <a:off x="684360" y="6597720"/>
              <a:ext cx="792144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4" name="Group 6"/>
            <p:cNvGrpSpPr/>
            <p:nvPr/>
          </p:nvGrpSpPr>
          <p:grpSpPr>
            <a:xfrm>
              <a:off x="684360" y="2133720"/>
              <a:ext cx="7921440" cy="574560"/>
              <a:chOff x="684360" y="2133720"/>
              <a:chExt cx="7921440" cy="574560"/>
            </a:xfrm>
          </p:grpSpPr>
          <p:sp>
            <p:nvSpPr>
              <p:cNvPr id="425" name="Line 7"/>
              <p:cNvSpPr/>
              <p:nvPr/>
            </p:nvSpPr>
            <p:spPr>
              <a:xfrm>
                <a:off x="684360" y="2133720"/>
                <a:ext cx="792144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Line 8"/>
              <p:cNvSpPr/>
              <p:nvPr/>
            </p:nvSpPr>
            <p:spPr>
              <a:xfrm>
                <a:off x="684360" y="2708280"/>
                <a:ext cx="792144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Text Box 9"/>
              <p:cNvSpPr/>
              <p:nvPr/>
            </p:nvSpPr>
            <p:spPr>
              <a:xfrm>
                <a:off x="755640" y="2205000"/>
                <a:ext cx="2087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000" spc="-1" strike="noStrike">
                    <a:solidFill>
                      <a:srgbClr val="000000"/>
                    </a:solidFill>
                    <a:latin typeface="Times New Roman"/>
                  </a:rPr>
                  <a:t>Frekfencija (Hz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Text Box 10"/>
              <p:cNvSpPr/>
              <p:nvPr/>
            </p:nvSpPr>
            <p:spPr>
              <a:xfrm>
                <a:off x="5003640" y="2205000"/>
                <a:ext cx="3384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000" spc="-1" strike="noStrike">
                    <a:solidFill>
                      <a:srgbClr val="000000"/>
                    </a:solidFill>
                    <a:latin typeface="Times New Roman"/>
                  </a:rPr>
                  <a:t>Karakter dejstv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Text Box 11"/>
            <p:cNvSpPr/>
            <p:nvPr/>
          </p:nvSpPr>
          <p:spPr>
            <a:xfrm>
              <a:off x="755640" y="2781360"/>
              <a:ext cx="1584360" cy="375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</a:rPr>
                <a:t>do 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</a:rPr>
                <a:t>do 2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</a:rPr>
                <a:t>do 3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</a:rPr>
                <a:t>2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</a:rPr>
                <a:t>16000 i &gt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Text Box 12"/>
            <p:cNvSpPr/>
            <p:nvPr/>
          </p:nvSpPr>
          <p:spPr>
            <a:xfrm>
              <a:off x="3059280" y="2708280"/>
              <a:ext cx="5760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000" spc="-1" strike="noStrike">
                  <a:solidFill>
                    <a:srgbClr val="000000"/>
                  </a:solidFill>
                  <a:latin typeface="Times New Roman"/>
                </a:rPr>
                <a:t>Dejstvuje ubrzanjem, izaziva poremećaj celog tela i organa, rakciju vestibularnog apara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Text Box 13"/>
            <p:cNvSpPr/>
            <p:nvPr/>
          </p:nvSpPr>
          <p:spPr>
            <a:xfrm>
              <a:off x="3040200" y="3376440"/>
              <a:ext cx="5779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000" spc="-1" strike="noStrike">
                  <a:solidFill>
                    <a:srgbClr val="000000"/>
                  </a:solidFill>
                  <a:latin typeface="Times New Roman"/>
                </a:rPr>
                <a:t>Prima se još kao pojedinačni udar, Izaziva promene koštanozglobnog siste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 Box 14"/>
            <p:cNvSpPr/>
            <p:nvPr/>
          </p:nvSpPr>
          <p:spPr>
            <a:xfrm>
              <a:off x="3059280" y="4095720"/>
              <a:ext cx="5616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000" spc="-1" strike="noStrike">
                  <a:solidFill>
                    <a:srgbClr val="000000"/>
                  </a:solidFill>
                  <a:latin typeface="Times New Roman"/>
                </a:rPr>
                <a:t>Pojavljuju se pojedinačni simptomi vibracione bolesti, spazam krvnih sudova je redak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Text Box 15"/>
            <p:cNvSpPr/>
            <p:nvPr/>
          </p:nvSpPr>
          <p:spPr>
            <a:xfrm>
              <a:off x="3059280" y="4724280"/>
              <a:ext cx="5760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000" spc="-1" strike="noStrike">
                  <a:solidFill>
                    <a:srgbClr val="000000"/>
                  </a:solidFill>
                  <a:latin typeface="Times New Roman"/>
                </a:rPr>
                <a:t>Vibraciona bolest sa angiospazmom, zona obrazovanja angiospazm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16"/>
            <p:cNvSpPr/>
            <p:nvPr/>
          </p:nvSpPr>
          <p:spPr>
            <a:xfrm>
              <a:off x="3059280" y="5479920"/>
              <a:ext cx="576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000" spc="-1" strike="noStrike">
                  <a:solidFill>
                    <a:srgbClr val="000000"/>
                  </a:solidFill>
                  <a:latin typeface="Times New Roman"/>
                </a:rPr>
                <a:t>Mogućnost vibracione bolesti se isključuj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17"/>
            <p:cNvSpPr/>
            <p:nvPr/>
          </p:nvSpPr>
          <p:spPr>
            <a:xfrm>
              <a:off x="3059280" y="5950080"/>
              <a:ext cx="5832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000" spc="-1" strike="noStrike">
                  <a:solidFill>
                    <a:srgbClr val="000000"/>
                  </a:solidFill>
                  <a:latin typeface="Times New Roman"/>
                </a:rPr>
                <a:t>Prelaz mehaničke energije u toplotnu. Baktericidni efekat, kavitacioni efekat, uticaj na CN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 Box 2"/>
          <p:cNvSpPr/>
          <p:nvPr/>
        </p:nvSpPr>
        <p:spPr>
          <a:xfrm>
            <a:off x="611280" y="54936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ВИБРАЦИЈЕ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биолошко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дејство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3"/>
          <p:cNvSpPr/>
          <p:nvPr/>
        </p:nvSpPr>
        <p:spPr>
          <a:xfrm>
            <a:off x="611280" y="2085840"/>
            <a:ext cx="813744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тепен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вид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роме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кој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астај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след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деловањ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вибрациј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завис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конкретних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слов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ра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функционалног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тањ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рган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дужин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злошеност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др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Text Box 2"/>
          <p:cNvSpPr/>
          <p:nvPr/>
        </p:nvSpPr>
        <p:spPr>
          <a:xfrm>
            <a:off x="611280" y="54936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ВИБРАЦИЈЕ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биолошко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дејство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3"/>
          <p:cNvSpPr/>
          <p:nvPr/>
        </p:nvSpPr>
        <p:spPr>
          <a:xfrm>
            <a:off x="611280" y="1708200"/>
            <a:ext cx="8137440" cy="51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ВИБРАЦИОН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БОЛЕСТ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им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четири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стадијум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Карактериш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слабо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изражени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болови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рукам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снажан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праг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осетљивости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вибрациј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склоност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грчевим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каписар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појав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мањих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трофичних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оштећењ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Престанком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деловањ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вибрациј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св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промен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губ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Промен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су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јач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изражен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Присутно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плаветнило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шак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повећано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знојењ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Промен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могу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изгубити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престанком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деловањ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вибрациј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леч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Јављају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јаки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болови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смањен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осетљивост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шак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поремећен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функциј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штитаст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жлезд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КВС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Промен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су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трајн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лечењ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отежано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Промен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захватају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читав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организам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трајн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су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изузетно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тешко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отклањају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Ретко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срећ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sr-CS" sz="4900" spc="-1" strike="noStrike">
                <a:solidFill>
                  <a:srgbClr val="800080"/>
                </a:solidFill>
                <a:latin typeface="Times New Roman"/>
              </a:rPr>
              <a:t>КЛИМА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03240" y="392040"/>
            <a:ext cx="777240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КЛИМА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-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ДЕФИНИ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Text Box 3"/>
          <p:cNvSpPr/>
          <p:nvPr/>
        </p:nvSpPr>
        <p:spPr>
          <a:xfrm>
            <a:off x="900000" y="1763640"/>
            <a:ext cx="784872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КЛИМА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(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поднебље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)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је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скуп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атмосферских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процеса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односно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временских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појава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које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карактерише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средње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стање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атмосфере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једног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географског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подручја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Средње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физичко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стање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атмосфере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добија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се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из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дугогодишњих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осматрања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метеоролошких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елемената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појава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Временска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јединица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климе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је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година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03240" y="392040"/>
            <a:ext cx="777240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КЛИМА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-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ДЕФИНИ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Text Box 3"/>
          <p:cNvSpPr/>
          <p:nvPr/>
        </p:nvSpPr>
        <p:spPr>
          <a:xfrm>
            <a:off x="900000" y="1268280"/>
            <a:ext cx="7848720" cy="54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ВРЕМ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тварно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тањ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етеоролошких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елеменат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јав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сматраном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ренутк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ој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м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д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ј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раћ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15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инут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ВРЕМ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ож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дефинисат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ао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дступањ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редњих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вредност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једном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л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другом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равц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но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завис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нтензитет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дступањ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дужин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рајањ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.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Завис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нтензитет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дужин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рајањ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дступањ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ајважниј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фактор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з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формирањ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времен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нтензитет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унчевог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зраче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ретањ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ваздух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атмосфе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војств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земљиш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03240" y="392040"/>
            <a:ext cx="777240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КЛИМА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-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ПОДЕ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Text Box 3"/>
          <p:cNvSpPr/>
          <p:nvPr/>
        </p:nvSpPr>
        <p:spPr>
          <a:xfrm>
            <a:off x="900000" y="1268280"/>
            <a:ext cx="7848720" cy="53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КЛИМ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с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мож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посматрат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прем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1.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Простору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ком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с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проучавају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климатск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свој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)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Клим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атмосфе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б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)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Клим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земљиш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2.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Величин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простор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географског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подруч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)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Макрокл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б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)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Мезокл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ц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)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Топокл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д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)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Микрокл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)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Ултракл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539640" y="620640"/>
            <a:ext cx="792000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Times New Roman"/>
              </a:rPr>
              <a:t>Гранична вредност буке 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јесте највиша дозвољена вредност индикатора буке. Грани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чне вредности могу бити 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различите за различите изворе буке, односно за различите акустичке зоне, као и за различите затворене и отворене просторе у којима бораве љу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Times New Roman"/>
              </a:rPr>
              <a:t>Акциони планови 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</a:rPr>
              <a:t>заштите од буке у животној средини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јесу 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планови који садрже мере заштите од буке и њених ефеката у животној средини, као и мере за смањење буке у случају прекорачења граничних вред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03240" y="392040"/>
            <a:ext cx="777240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КЛИМА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-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ПОДЕ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Text Box 3"/>
          <p:cNvSpPr/>
          <p:nvPr/>
        </p:nvSpPr>
        <p:spPr>
          <a:xfrm>
            <a:off x="900000" y="1635120"/>
            <a:ext cx="7848720" cy="47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рем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ростор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ом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роучавај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лиматск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војства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сто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лим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атмосфе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ј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лим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ваздушног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лој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ко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10-12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km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висин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(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висин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ојој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јављуј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блац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б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)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лим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земљиш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ј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лим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лој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земљишт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до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дубин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ко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11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m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(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до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дубин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до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ој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сећај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лиматск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елемент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ваздушног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лој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03240" y="392040"/>
            <a:ext cx="777240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КЛИМА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-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ПОДЕ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Text Box 3"/>
          <p:cNvSpPr/>
          <p:nvPr/>
        </p:nvSpPr>
        <p:spPr>
          <a:xfrm>
            <a:off x="900000" y="1268280"/>
            <a:ext cx="7848720" cy="56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2.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Величин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ростор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географског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друч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акрокл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ј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лим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ој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захват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велик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географск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ростор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личном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лиматском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труктуром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л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личног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лиматског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ип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(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лим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кеан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тепског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ростор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др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б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)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езокл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ј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лим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граничених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географских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јединиц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ој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д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стим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лиматским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утицајем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(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лим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речн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долин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језер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шумског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дручј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др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03240" y="392040"/>
            <a:ext cx="777240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КЛИМА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-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ПОДЕ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Text Box 3"/>
          <p:cNvSpPr/>
          <p:nvPr/>
        </p:nvSpPr>
        <p:spPr>
          <a:xfrm>
            <a:off x="900000" y="1557360"/>
            <a:ext cx="7848720" cy="533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2.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Величин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простор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географског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подруч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ц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)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Топокл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ј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клим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издвојен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конпонент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самосталн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географск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јединиц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(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клим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дн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долин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врх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планин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њив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с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истом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вегетацијом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др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д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)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Микрокл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ј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клим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малих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негеографских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величин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(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клим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у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стану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канцелариј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болниц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др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.);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однос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с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приземн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слој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ваздух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до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висин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од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2</a:t>
            </a:r>
            <a:r>
              <a:rPr b="1" lang="en-US" sz="2000" spc="-1" strike="noStrike">
                <a:solidFill>
                  <a:srgbClr val="800080"/>
                </a:solidFill>
                <a:latin typeface="Times New Roman"/>
              </a:rPr>
              <a:t>m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изнад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Земљин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површин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)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Ултракл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ј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клим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између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слојев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одећ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тел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03240" y="392040"/>
            <a:ext cx="777240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КЛИМА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-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САСТАВ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ext Box 3"/>
          <p:cNvSpPr/>
          <p:nvPr/>
        </p:nvSpPr>
        <p:spPr>
          <a:xfrm>
            <a:off x="900000" y="1557360"/>
            <a:ext cx="7848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лим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чин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лиматск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елемент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осмичк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елурс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геолош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етеоролош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03240" y="392040"/>
            <a:ext cx="777240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КЛИМА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-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САСТАВ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Text Box 3"/>
          <p:cNvSpPr/>
          <p:nvPr/>
        </p:nvSpPr>
        <p:spPr>
          <a:xfrm>
            <a:off x="250920" y="1268280"/>
            <a:ext cx="8353440" cy="52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Космички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климатски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елемент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су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зрачењ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Сунц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неб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Телурски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климатски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елемент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су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: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величин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израчивањ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земљ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против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зрачењ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атмосфер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количин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радиоактивних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зрак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садржај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прашин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других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честиц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у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ваздуху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Геолошки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климатски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елемент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су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: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пропустљивост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земљ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з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Сунчево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небеско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зрачењ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проводљивост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земљ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з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температуру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топлоту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61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Метеоролошки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климатски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елемент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су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: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температур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ваздух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земљишт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валажност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ваздух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земљишт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струјањ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ваздух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ваздушн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притисак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електрицитет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03240" y="392040"/>
            <a:ext cx="777240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КЛИМА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-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ДЕФИНИ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Text Box 3"/>
          <p:cNvSpPr/>
          <p:nvPr/>
        </p:nvSpPr>
        <p:spPr>
          <a:xfrm>
            <a:off x="900000" y="2081160"/>
            <a:ext cx="784872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ЕТЕОРОЛОШК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ЕЛЕМЕНТ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тално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рисутн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величин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атмосфер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(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емператур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</a:t>
            </a:r>
            <a:r>
              <a:rPr b="1" lang="sr-Latn-CS" sz="2400" spc="-1" strike="noStrike" baseline="30000">
                <a:solidFill>
                  <a:srgbClr val="800080"/>
                </a:solidFill>
                <a:latin typeface="Times New Roman"/>
              </a:rPr>
              <a:t>0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,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релативн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влажност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Rv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оплотно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зрачењ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барометарск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ритисак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Bp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трујањ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ваздух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-W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,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електрицитет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ЕТЕОРОЛОШК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ЈАВ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етеоролошк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догађај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ој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времено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јављај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(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агл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блачност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иш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нег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лан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рос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др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03240" y="392040"/>
            <a:ext cx="777240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КЛИМА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-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ДЕФИНИ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Text Box 3"/>
          <p:cNvSpPr/>
          <p:nvPr/>
        </p:nvSpPr>
        <p:spPr>
          <a:xfrm>
            <a:off x="900000" y="2081160"/>
            <a:ext cx="7848720" cy="39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Земљин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вршин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днос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омбинациј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лиматских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елеменат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дел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ЛИМАТСК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ЈАСЕВ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(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ЛИМАТСК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ЗОН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земљ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стој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5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лиматских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јасев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1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жар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2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умерен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2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хлад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03240" y="392040"/>
            <a:ext cx="777240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КЛИМА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-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ДЕФИНИ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Text Box 3"/>
          <p:cNvSpPr/>
          <p:nvPr/>
        </p:nvSpPr>
        <p:spPr>
          <a:xfrm>
            <a:off x="900000" y="1413000"/>
            <a:ext cx="7848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днос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емпературн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длик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лим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земљ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стој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5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оплотних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јасев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ропск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(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свих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12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месец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ј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врућ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температур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ваздух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н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пад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испод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20</a:t>
            </a:r>
            <a:r>
              <a:rPr b="1" lang="sr-Latn-CS" sz="2000" spc="-1" strike="noStrike" baseline="30000">
                <a:solidFill>
                  <a:srgbClr val="800080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800080"/>
                </a:solidFill>
                <a:latin typeface="Times New Roman"/>
              </a:rPr>
              <a:t>C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уптропск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(4-11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месец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су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врућ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с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температуром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ваздух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изнад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20</a:t>
            </a:r>
            <a:r>
              <a:rPr b="1" lang="sr-Latn-CS" sz="2000" spc="-1" strike="noStrike" baseline="30000">
                <a:solidFill>
                  <a:srgbClr val="800080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800080"/>
                </a:solidFill>
                <a:latin typeface="Times New Roman"/>
              </a:rPr>
              <a:t>C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1-8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месец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су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умерен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с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температуром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ваздух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између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10-20</a:t>
            </a:r>
            <a:r>
              <a:rPr b="1" lang="sr-Latn-CS" sz="2000" spc="-1" strike="noStrike" baseline="30000">
                <a:solidFill>
                  <a:srgbClr val="800080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800080"/>
                </a:solidFill>
                <a:latin typeface="Times New Roman"/>
              </a:rPr>
              <a:t>C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Умерен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(4-12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месец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температур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од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10-20</a:t>
            </a:r>
            <a:r>
              <a:rPr b="1" lang="sr-Latn-CS" sz="2000" spc="-1" strike="noStrike" baseline="30000">
                <a:solidFill>
                  <a:srgbClr val="800080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800080"/>
                </a:solidFill>
                <a:latin typeface="Times New Roman"/>
              </a:rPr>
              <a:t>C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Хладан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(1-4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месец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су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умерен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с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температуром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од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10-20</a:t>
            </a:r>
            <a:r>
              <a:rPr b="1" lang="en-US" sz="2000" spc="-1" strike="noStrike" baseline="30000">
                <a:solidFill>
                  <a:srgbClr val="800080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800080"/>
                </a:solidFill>
                <a:latin typeface="Times New Roman"/>
              </a:rPr>
              <a:t>C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остал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месец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су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хладн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с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темепературон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испод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10</a:t>
            </a:r>
            <a:r>
              <a:rPr b="1" lang="en-US" sz="2000" spc="-1" strike="noStrike" baseline="30000">
                <a:solidFill>
                  <a:srgbClr val="800080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800080"/>
                </a:solidFill>
                <a:latin typeface="Times New Roman"/>
              </a:rPr>
              <a:t>C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ларн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(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св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месец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су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хладн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температур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ваздух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ј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испод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10</a:t>
            </a:r>
            <a:r>
              <a:rPr b="1" lang="sr-Latn-CS" sz="2000" spc="-1" strike="noStrike" baseline="30000">
                <a:solidFill>
                  <a:srgbClr val="800080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800080"/>
                </a:solidFill>
                <a:latin typeface="Times New Roman"/>
              </a:rPr>
              <a:t>C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03240" y="392040"/>
            <a:ext cx="777240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КЛИМА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-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ДЕФИНИ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Text Box 3"/>
          <p:cNvSpPr/>
          <p:nvPr/>
        </p:nvSpPr>
        <p:spPr>
          <a:xfrm>
            <a:off x="900000" y="2279520"/>
            <a:ext cx="7848720" cy="34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сновн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лиматск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ипов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кеанск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(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аритимн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риморск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(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литоралн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опнен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(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онтиненталн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03240" y="392040"/>
            <a:ext cx="777240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КЛИМА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-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УТИЦАЈ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ЗДРАВЉ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Text Box 3"/>
          <p:cNvSpPr/>
          <p:nvPr/>
        </p:nvSpPr>
        <p:spPr>
          <a:xfrm>
            <a:off x="900000" y="1268280"/>
            <a:ext cx="7848720" cy="53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ПРИМОРСК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КЛ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Им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дуг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топл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период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(7-10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месец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)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у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ком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су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температур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ваздух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изнад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10</a:t>
            </a:r>
            <a:r>
              <a:rPr b="1" lang="sr-Latn-CS" sz="2000" spc="-1" strike="noStrike" baseline="30000">
                <a:solidFill>
                  <a:srgbClr val="800080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800080"/>
                </a:solidFill>
                <a:latin typeface="Times New Roman"/>
              </a:rPr>
              <a:t>C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Хладан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период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трај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2-5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месец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температур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ваздух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ј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ретко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ниж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од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0</a:t>
            </a:r>
            <a:r>
              <a:rPr b="1" lang="sr-Latn-CS" sz="2000" spc="-1" strike="noStrike" baseline="30000">
                <a:solidFill>
                  <a:srgbClr val="800080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800080"/>
                </a:solidFill>
                <a:latin typeface="Times New Roman"/>
              </a:rPr>
              <a:t>C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Ову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климу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карактериш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дуг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дневн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осунчаност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мал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број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кишних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дан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одсуство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великих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дневних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колебањ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температур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ваздух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(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утицај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вод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кој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лет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снижав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,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зим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подиж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температуру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Ваздух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у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овом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климатском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подручју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ј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богат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јодом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другим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минералним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материјам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садрж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мал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концентрациј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загађујужих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материј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(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бактериј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честиц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др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>
            <a:off x="755640" y="2209680"/>
            <a:ext cx="7920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Times New Roman"/>
              </a:rPr>
              <a:t>Аку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i="1" lang="pl-PL" sz="2800" spc="-1" strike="noStrike">
                <a:solidFill>
                  <a:srgbClr val="000000"/>
                </a:solidFill>
                <a:latin typeface="Times New Roman"/>
              </a:rPr>
              <a:t>тичко планирање 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јесте предузимање мера заштите од буке у будућности, као што су просторно планирање, пројектовање и планирање система саобраћаја, примена звучне заштите путем одговарајуће звучне изолације и звучних баријера, као и праћење нивоа буке коју емитују извори бу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03240" y="392040"/>
            <a:ext cx="777240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КЛИМА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-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УТИЦАЈ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ЗДРАВЉ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Text Box 3"/>
          <p:cNvSpPr/>
          <p:nvPr/>
        </p:nvSpPr>
        <p:spPr>
          <a:xfrm>
            <a:off x="900000" y="1268280"/>
            <a:ext cx="7848720" cy="56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ПРИМОРСК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КЛ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Стимулиш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физиолошк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процес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у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организму</a:t>
            </a:r>
            <a:r>
              <a:rPr b="1" lang="en-US" sz="20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Делуј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повољно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: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нормализацију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дисањ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крвног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притиск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рад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ендокриног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систем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функционисањ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мишић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кож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Делуј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умирујућ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1" lang="en-U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ЦНС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Повољно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утич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: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анемичн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особ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хроничн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реуматск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респираторн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болесник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НЕПОВОЉНО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УТИЧ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ОСОБ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С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АКУТНИМ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РЕУМАТСКИМ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ОБОЉЕЊИМ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ПСИХИЧКИМ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ПОРЕМЕЋАЈИМ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ТБЦ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-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ом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КАРДИОВАСКУЛАРНИМ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ОБОЉЕЊИМ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03240" y="392040"/>
            <a:ext cx="777240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КЛИМА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-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УТИЦАЈ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ЗДРАВЉ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Text Box 3"/>
          <p:cNvSpPr/>
          <p:nvPr/>
        </p:nvSpPr>
        <p:spPr>
          <a:xfrm>
            <a:off x="900000" y="2062080"/>
            <a:ext cx="784872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ОПНЕН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Л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Годишњ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олебањ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емператур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ваздух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знос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реко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50</a:t>
            </a:r>
            <a:r>
              <a:rPr b="1" lang="sr-Latn-CS" sz="2400" spc="-1" strike="noStrike" baseline="30000">
                <a:solidFill>
                  <a:srgbClr val="800080"/>
                </a:solidFill>
                <a:latin typeface="Times New Roman"/>
              </a:rPr>
              <a:t>0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Ц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дневн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олебањ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20-30</a:t>
            </a:r>
            <a:r>
              <a:rPr b="1" lang="sr-Latn-CS" sz="2400" spc="-1" strike="noStrike" baseline="30000">
                <a:solidFill>
                  <a:srgbClr val="80008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C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АГЛ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ОЛЕБАЊ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ДЕЛУЈ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ЕПОВОЉНО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ЕРВН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ИСТЕМ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ЕРМОРЕГУЛАЦИОН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ЕХАНИЗМ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03240" y="392040"/>
            <a:ext cx="777240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КЛИМА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-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УТИЦАЈ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ЗДРАВЉ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Text Box 3"/>
          <p:cNvSpPr/>
          <p:nvPr/>
        </p:nvSpPr>
        <p:spPr>
          <a:xfrm>
            <a:off x="900000" y="1982880"/>
            <a:ext cx="7848720" cy="36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ДТИПОВ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ОПНЕН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ЛИ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лим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иских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дручј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(300-600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m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адморск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висин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(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.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в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.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876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убалпск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(600-1200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m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n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v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751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Алпск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(1200-2000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m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n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v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03240" y="392040"/>
            <a:ext cx="777240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КЛИМА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-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УТИЦАЈ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ЗДРАВЉ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Text Box 3"/>
          <p:cNvSpPr/>
          <p:nvPr/>
        </p:nvSpPr>
        <p:spPr>
          <a:xfrm>
            <a:off x="900000" y="1863720"/>
            <a:ext cx="7848720" cy="47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Клима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ниских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подручја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(300-600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m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n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.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v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ДЕЛУЈ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ВОЉНО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СОБ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БОЛЕЛ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сихичких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ремећа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шећерн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бол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ВБ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(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висок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ритисак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-HTA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angina pectoris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др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респираторних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бољењ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(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бронхитис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емфизем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др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03240" y="392040"/>
            <a:ext cx="777240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КЛИМА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-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УТИЦАЈ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ЗДРАВЉ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Text Box 3"/>
          <p:cNvSpPr/>
          <p:nvPr/>
        </p:nvSpPr>
        <p:spPr>
          <a:xfrm>
            <a:off x="900000" y="1690560"/>
            <a:ext cx="7848720" cy="48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Субалпска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(600-1200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m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n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.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v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ДЕЛУЈ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ВОЉНО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БОЛЕЛ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лућних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бољењ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(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астм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бронхитис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др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бубрежних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бољењ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(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амењ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др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пшт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поравак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здравих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реконвалесцен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03240" y="392040"/>
            <a:ext cx="777240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КЛИМА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-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УТИЦАЈ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ЗДРАВЉ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Text Box 3"/>
          <p:cNvSpPr/>
          <p:nvPr/>
        </p:nvSpPr>
        <p:spPr>
          <a:xfrm>
            <a:off x="900000" y="1484280"/>
            <a:ext cx="7848720" cy="51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Алпска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(1200-2000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m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n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.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v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ДЕЛУЈ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ВОЉНО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БОЛЕЛ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рахитис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(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већано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УВ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зрачењ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анемиј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других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болест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хематопоезних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рг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ВБ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-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вишен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рвн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ритисак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др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апорног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умног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физичког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ра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ДЕЛУЈ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ЕПОВОЉНО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БОЛЕЛ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сихијатријских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боље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03240" y="392040"/>
            <a:ext cx="777240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МИКРОЛИМАТСКИ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ЕЛЕМЕНТИ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-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УТИЦАЈ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ЗДРАВЉ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Text Box 3"/>
          <p:cNvSpPr/>
          <p:nvPr/>
        </p:nvSpPr>
        <p:spPr>
          <a:xfrm>
            <a:off x="324000" y="1692360"/>
            <a:ext cx="8424720" cy="49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ЗНАЧАЈ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ЕМПЕРАТУР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ВАЗДУХ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900" spc="-1" strike="noStrike">
                <a:solidFill>
                  <a:srgbClr val="80008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ХИГИЈЕНСК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(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тварањ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вољних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л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еповољних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услов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з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живот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рад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људ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твореном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л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затвореном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ростор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II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.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ЕКОЛОШК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(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због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утицај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распростирањ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рансформациј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загађујућих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атериј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III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.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ЕДИЦИНСК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(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утич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државањ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оплот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рганизм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радн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пособност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твар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услов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з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астанак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апљичних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размножавањ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вектор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реносилац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заразних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болест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-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омарц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ув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03240" y="392040"/>
            <a:ext cx="777240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МИКРОЛИМАТСКИ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ЕЛЕМЕНТИ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-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УТИЦАЈ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ЗДРАВЉ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Text Box 3"/>
          <p:cNvSpPr/>
          <p:nvPr/>
        </p:nvSpPr>
        <p:spPr>
          <a:xfrm>
            <a:off x="900000" y="1692360"/>
            <a:ext cx="7848720" cy="54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ЕДИЦИНСК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ЗНАЧАЈ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ЕМПЕРАТУР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ВАЗДУХ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900" spc="-1" strike="noStrike">
                <a:solidFill>
                  <a:srgbClr val="80008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Човек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ј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хомеотерм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.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еханизмом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физичк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хемијск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ерморегулациј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држав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талн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емператур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унутрашњост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гранизм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(37-38</a:t>
            </a:r>
            <a:r>
              <a:rPr b="1" lang="sr-Latn-CS" sz="2400" spc="-1" strike="noStrike" baseline="30000">
                <a:solidFill>
                  <a:srgbClr val="80008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C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роменљив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емператур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ож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(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рст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27</a:t>
            </a:r>
            <a:r>
              <a:rPr b="1" lang="sr-Latn-CS" sz="2400" spc="-1" strike="noStrike" baseline="30000">
                <a:solidFill>
                  <a:srgbClr val="80008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C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рамен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31-32</a:t>
            </a:r>
            <a:r>
              <a:rPr b="1" lang="sr-Latn-CS" sz="2400" spc="-1" strike="noStrike" baseline="30000">
                <a:solidFill>
                  <a:srgbClr val="80008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C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чел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34-35</a:t>
            </a:r>
            <a:r>
              <a:rPr b="1" lang="sr-Latn-CS" sz="2400" spc="-1" strike="noStrike" baseline="30000">
                <a:solidFill>
                  <a:srgbClr val="80008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C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региб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рамен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36-37</a:t>
            </a:r>
            <a:r>
              <a:rPr b="1" lang="sr-Latn-CS" sz="2400" spc="-1" strike="noStrike" baseline="30000">
                <a:solidFill>
                  <a:srgbClr val="80008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C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03240" y="392040"/>
            <a:ext cx="777240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МИКРОЛИМАТСКИ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ЕЛЕМЕНТИ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-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УТИЦАЈ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ЗДРАВЉ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Text Box 3"/>
          <p:cNvSpPr/>
          <p:nvPr/>
        </p:nvSpPr>
        <p:spPr>
          <a:xfrm>
            <a:off x="900000" y="1557360"/>
            <a:ext cx="7848720" cy="52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ЕДИЦИНСК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ЗНАЧАЈ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ЕМПЕРАТУР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ВАЗДУХ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900" spc="-1" strike="noStrike">
                <a:solidFill>
                  <a:srgbClr val="80008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ФИЗИЧК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ЕРМОРЕГУЛАЦИЈ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ј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регулациј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давањ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оплот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условим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њеног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већаног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тварањ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рганизм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л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боравк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редин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вишеном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емпературом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давањ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оплот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ож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бавит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радијацијом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(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зрачењ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онвекцијом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(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трујањем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ондукцијом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(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ровођењем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евапорацијом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(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спаравањем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03240" y="392040"/>
            <a:ext cx="777240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МИКРОЛИМАТСКИ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ЕЛЕМЕНТИ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-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УТИЦАЈ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ЗДРАВЉ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900000" y="1557360"/>
            <a:ext cx="7848720" cy="54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ЕДИЦИНСК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ЗНАЧАЈ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ЕМПЕРАТУР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ВАЗДУХ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900" spc="-1" strike="noStrike">
                <a:solidFill>
                  <a:srgbClr val="80008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ХЕМИЈСК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ЕРМОРЕГУЛАЦИЈ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роцес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регулациј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агоревањ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атериј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рганизм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укупн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роизводњ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оплот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утич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базалн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етаболиз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физичк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активност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келетних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ишић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ишићн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онус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стпрандијалн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ермоген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539640" y="836640"/>
            <a:ext cx="7920000" cy="42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ву</a:t>
            </a: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чна заштита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т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с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куп мера којим се обезбеђује да звук при преносу из једног у други простор буде ослабљен, као и мере да се бука уређаја и инсталација у објекту смањ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Звучна заштита подразумева и скуп мера које се спроводе у спољном простору, а које утичу на смањење нивоа звука при простирањ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Звучна заштита се реализује пројектовањем и извођењем звучне изолације конструкција и мерама смањења, односно ограничења бу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903240" y="392040"/>
            <a:ext cx="777240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МИКРОЛИМАТСКИ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ЕЛЕМЕНТИ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-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УТИЦАЈ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ЗДРАВЉ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Text Box 3"/>
          <p:cNvSpPr/>
          <p:nvPr/>
        </p:nvSpPr>
        <p:spPr>
          <a:xfrm>
            <a:off x="900000" y="1557360"/>
            <a:ext cx="7848720" cy="38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ЕДИЦИНСК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ЗНАЧАЈ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ЕМПЕРАТУР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ВАЗДУХ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900" spc="-1" strike="noStrike">
                <a:solidFill>
                  <a:srgbClr val="80008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давањ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оплот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завис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Узра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Укупн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вршин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ел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(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дец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дај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виш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оплот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драслих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903240" y="392040"/>
            <a:ext cx="777240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МИКРОЛИМАТСКИ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ЕЛЕМЕНТИ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-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УТИЦАЈ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ЗДРАВЉ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Text Box 3"/>
          <p:cNvSpPr/>
          <p:nvPr/>
        </p:nvSpPr>
        <p:spPr>
          <a:xfrm>
            <a:off x="900000" y="1557360"/>
            <a:ext cx="7848720" cy="51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МЕДИЦИНСКИ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ЗНАЧАЈ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ЕМПЕРАТУР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ВАЗДУ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Радијацијом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(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зрачењ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)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оплот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с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одај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кад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ј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емператур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околних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ел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ниж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од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емператур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површин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ел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(32</a:t>
            </a:r>
            <a:r>
              <a:rPr b="1" lang="sr-Latn-CS" sz="1800" spc="-1" strike="noStrike" baseline="30000">
                <a:solidFill>
                  <a:srgbClr val="800080"/>
                </a:solidFill>
                <a:latin typeface="Times New Roman"/>
              </a:rPr>
              <a:t>0</a:t>
            </a:r>
            <a:r>
              <a:rPr b="1" lang="en-US" sz="1800" spc="-1" strike="noStrike">
                <a:solidFill>
                  <a:srgbClr val="800080"/>
                </a:solidFill>
                <a:latin typeface="Times New Roman"/>
              </a:rPr>
              <a:t>C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).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Овим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путем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човек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губи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44%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оплот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Конвекцијом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(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струјањем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одвођењем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)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кондукцијом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(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провођењем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)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оплот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с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одај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кад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ј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емператур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околног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ваздух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ниж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од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емператур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површин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ел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(32</a:t>
            </a:r>
            <a:r>
              <a:rPr b="1" lang="sr-Latn-CS" sz="1800" spc="-1" strike="noStrike" baseline="30000">
                <a:solidFill>
                  <a:srgbClr val="800080"/>
                </a:solidFill>
                <a:latin typeface="Times New Roman"/>
              </a:rPr>
              <a:t>0</a:t>
            </a:r>
            <a:r>
              <a:rPr b="1" lang="en-US" sz="1800" spc="-1" strike="noStrike">
                <a:solidFill>
                  <a:srgbClr val="800080"/>
                </a:solidFill>
                <a:latin typeface="Times New Roman"/>
              </a:rPr>
              <a:t>C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).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Овим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путем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с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губи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32%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оплот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.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Кад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ј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емператур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ваздух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виш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од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32</a:t>
            </a:r>
            <a:r>
              <a:rPr b="1" lang="sr-Latn-CS" sz="1800" spc="-1" strike="noStrike" baseline="30000">
                <a:solidFill>
                  <a:srgbClr val="800080"/>
                </a:solidFill>
                <a:latin typeface="Times New Roman"/>
              </a:rPr>
              <a:t>0</a:t>
            </a:r>
            <a:r>
              <a:rPr b="1" lang="en-US" sz="1800" spc="-1" strike="noStrike">
                <a:solidFill>
                  <a:srgbClr val="800080"/>
                </a:solidFill>
                <a:latin typeface="Times New Roman"/>
              </a:rPr>
              <a:t>C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настај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примањ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оплот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Евапорацијом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(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испаравањем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)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ј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једини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механизам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ерморегулациј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кад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спољашњ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емператур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преж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32</a:t>
            </a:r>
            <a:r>
              <a:rPr b="1" lang="sr-Latn-CS" sz="1800" spc="-1" strike="noStrike" baseline="30000">
                <a:solidFill>
                  <a:srgbClr val="800080"/>
                </a:solidFill>
                <a:latin typeface="Times New Roman"/>
              </a:rPr>
              <a:t>0</a:t>
            </a:r>
            <a:r>
              <a:rPr b="1" lang="en-US" sz="1800" spc="-1" strike="noStrike">
                <a:solidFill>
                  <a:srgbClr val="800080"/>
                </a:solidFill>
                <a:latin typeface="Times New Roman"/>
              </a:rPr>
              <a:t>C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.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овај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начин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с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одај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21%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оплот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.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Механизам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с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одржав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до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ренутк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док</a:t>
            </a:r>
            <a:r>
              <a:rPr b="1" lang="en-US" sz="1800" spc="-1" strike="noStrike">
                <a:solidFill>
                  <a:srgbClr val="800080"/>
                </a:solidFill>
                <a:latin typeface="Times New Roman"/>
              </a:rPr>
              <a:t> Rv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н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достигн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100%.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Након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ог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долази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до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прегревањ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организм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(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оплотни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удар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03240" y="392040"/>
            <a:ext cx="777240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МИКРОЛИМАТСКИ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ЕЛЕМЕНТИ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-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УТИЦАЈ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ЗДРАВЉ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Text Box 3"/>
          <p:cNvSpPr/>
          <p:nvPr/>
        </p:nvSpPr>
        <p:spPr>
          <a:xfrm>
            <a:off x="900000" y="2165400"/>
            <a:ext cx="7848720" cy="45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МЕДИЦИНСКИ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ЗНАЧАЈ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ТЕМПЕРАТУРЕ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ВАЗДУ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организам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изузетно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неповољно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делују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температурни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екстреми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Механизми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терморегулације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не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могу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да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савладају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велике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разлике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између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максималних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минималних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температура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03240" y="392040"/>
            <a:ext cx="777240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МИКРОЛИМАТСКИ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ЕЛЕМЕНТИ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-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УТИЦАЈ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ЗДРАВЉ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Text Box 3"/>
          <p:cNvSpPr/>
          <p:nvPr/>
        </p:nvSpPr>
        <p:spPr>
          <a:xfrm>
            <a:off x="108000" y="2233440"/>
            <a:ext cx="885672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УТИЦАЈ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ЕМПЕРАТУР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ВАЗДУХ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ЗДРАВЉ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Утицај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висок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емператур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(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ширењ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рвних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удов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ад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ритиск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убрзан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рад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рц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-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ад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ткуцај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ређ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135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инут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ерморегулацион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еханизм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тказуј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астај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олотн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удар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др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Утицај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иск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емператур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(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већањ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базалног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етаболизм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убрзавањ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роцес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агоревањ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већањ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активност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келетних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ишић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скључењ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800080"/>
                </a:solidFill>
                <a:latin typeface="Times New Roman"/>
              </a:rPr>
              <a:t>или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мањењ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давањ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оплот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инимум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03240" y="392040"/>
            <a:ext cx="777240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800080"/>
                </a:solidFill>
                <a:latin typeface="Times New Roman"/>
              </a:rPr>
              <a:t>МИКРОЛИМАТСКИ</a:t>
            </a:r>
            <a:r>
              <a:rPr b="0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1800" spc="-1" strike="noStrike">
                <a:solidFill>
                  <a:srgbClr val="800080"/>
                </a:solidFill>
                <a:latin typeface="Times New Roman"/>
              </a:rPr>
              <a:t>ЕЛЕМЕНТИ</a:t>
            </a:r>
            <a:r>
              <a:rPr b="0" lang="sr-Latn-CS" sz="1800" spc="-1" strike="noStrike">
                <a:solidFill>
                  <a:srgbClr val="800080"/>
                </a:solidFill>
                <a:latin typeface="Times New Roman"/>
              </a:rPr>
              <a:t>-</a:t>
            </a:r>
            <a:r>
              <a:rPr b="0" lang="sr-CS" sz="1800" spc="-1" strike="noStrike">
                <a:solidFill>
                  <a:srgbClr val="800080"/>
                </a:solidFill>
                <a:latin typeface="Times New Roman"/>
              </a:rPr>
              <a:t>УТИЦАЈ</a:t>
            </a:r>
            <a:r>
              <a:rPr b="0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18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0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1800" spc="-1" strike="noStrike">
                <a:solidFill>
                  <a:srgbClr val="800080"/>
                </a:solidFill>
                <a:latin typeface="Times New Roman"/>
              </a:rPr>
              <a:t>ЗДРАВЉ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Text Box 3"/>
          <p:cNvSpPr/>
          <p:nvPr/>
        </p:nvSpPr>
        <p:spPr>
          <a:xfrm>
            <a:off x="0" y="1413000"/>
            <a:ext cx="91090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Висок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емператур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ваздух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довод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до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: </a:t>
            </a:r>
            <a:r>
              <a:rPr b="1" lang="en-US" sz="1800" spc="-1" strike="noStrike">
                <a:solidFill>
                  <a:srgbClr val="800080"/>
                </a:solidFill>
                <a:latin typeface="Times New Roman"/>
              </a:rPr>
              <a:t>локалних и општих поремећаја здрављ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Висок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емператур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ваздух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најчешћ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довод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до следећих општих поремећај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Times New Roman"/>
              </a:rPr>
              <a:t>Дехидратациј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Times New Roman"/>
              </a:rPr>
              <a:t>Топлотног оси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оплотних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грчев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(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су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последиц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повећаног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знојењ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смањењ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концентрациј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натријумхлорид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у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крви)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.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Грчеви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с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јављају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у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скелетним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мишићим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.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Крвни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притисак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емператур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ел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нормални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.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Кож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ј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влажн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опл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.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ерапиј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уношењ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довољних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количин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слан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вод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оплотног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колапс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(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оплотн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исцрпљеност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или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изнуреност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)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ј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последиц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губитк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способности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прилагођавањ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крвоток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високој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емператури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.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емператур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ел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нормалн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или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лако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повишен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.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Притисак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испод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нормал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.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Кож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влажн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без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обзир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спољну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емпературу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.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ерапиј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вештачко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расхлађивањ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оплотног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удар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ј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последиц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отказивањ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ерморегулационих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механизам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.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Нагли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губитак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свести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грчеви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повишен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елесн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емператур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крвни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притисак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лако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повећан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пулс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убржан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кож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сув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опл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.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ерапиј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вештачко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расхлађивањ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800080"/>
                </a:solidFill>
                <a:latin typeface="Times New Roman"/>
              </a:rPr>
              <a:t>Високе</a:t>
            </a:r>
            <a:r>
              <a:rPr b="1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800080"/>
                </a:solidFill>
                <a:latin typeface="Times New Roman"/>
              </a:rPr>
              <a:t>температуре</a:t>
            </a:r>
            <a:r>
              <a:rPr b="1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800080"/>
                </a:solidFill>
                <a:latin typeface="Times New Roman"/>
              </a:rPr>
              <a:t>ваздуха</a:t>
            </a:r>
            <a:r>
              <a:rPr b="1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800080"/>
                </a:solidFill>
                <a:latin typeface="Times New Roman"/>
              </a:rPr>
              <a:t>најчешће</a:t>
            </a:r>
            <a:r>
              <a:rPr b="1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800080"/>
                </a:solidFill>
                <a:latin typeface="Times New Roman"/>
              </a:rPr>
              <a:t>доводе</a:t>
            </a:r>
            <a:r>
              <a:rPr b="1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800080"/>
                </a:solidFill>
                <a:latin typeface="Times New Roman"/>
              </a:rPr>
              <a:t>до следећих локалних поремећаја</a:t>
            </a:r>
            <a:r>
              <a:rPr b="1" lang="sr-Latn-CS" sz="3200" spc="-1" strike="noStrike">
                <a:solidFill>
                  <a:srgbClr val="80008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Главобољ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Вртоглави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Сунчани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Опекотине </a:t>
            </a:r>
            <a:r>
              <a:rPr b="1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03240" y="392040"/>
            <a:ext cx="777240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МИКРОЛИМАТСКИ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ЕЛЕМЕНТИ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-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УТИЦАЈ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ЗДРАВЉ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Text Box 3"/>
          <p:cNvSpPr/>
          <p:nvPr/>
        </p:nvSpPr>
        <p:spPr>
          <a:xfrm>
            <a:off x="900000" y="2216160"/>
            <a:ext cx="78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иск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емператур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ајчешћ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довод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до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азеб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ролазн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запаљенск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реакциј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дисајних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утев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алергијск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реак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рововск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ог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мрзав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03240" y="392040"/>
            <a:ext cx="777240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МИКРОЛИМАТСКИ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ЕЛЕМЕНТИ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-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УТИЦАЈ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ЗДРАВЉ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Text Box 3"/>
          <p:cNvSpPr/>
          <p:nvPr/>
        </p:nvSpPr>
        <p:spPr>
          <a:xfrm>
            <a:off x="900000" y="1628640"/>
            <a:ext cx="7848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УТИЦАЈ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ВЛАЖНОСТ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ВАЗДУХ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ЗДРАВЉ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Кад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ј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ваздух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сув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температур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висок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настај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испаравањ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вод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из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организм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преко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слузниц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кож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.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Због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тог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он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постају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сув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пропустљив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з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бактериј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вирус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Кад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ј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ваздух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влажан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температур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висок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онемогућено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ј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одавањ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топлот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испаравањем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.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Што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ремет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терморегулацион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механизм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довод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до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прегревањ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Пр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високој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влажност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ниској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температур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ваздух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настај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повећано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одузимањ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топлот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долаз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до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његовог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расхлађивањ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ЧОВЕК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С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НАЈБОЉ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ОСЕЋ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КАД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Ј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800080"/>
                </a:solidFill>
                <a:latin typeface="Times New Roman"/>
              </a:rPr>
              <a:t>Rv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КРЕЋ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ОД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45%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ДО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75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903240" y="392040"/>
            <a:ext cx="777240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МЕТЕОРОПАТОЛОГИЈА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-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ДЕФИНИЦ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Text Box 3"/>
          <p:cNvSpPr/>
          <p:nvPr/>
        </p:nvSpPr>
        <p:spPr>
          <a:xfrm>
            <a:off x="900000" y="1341360"/>
            <a:ext cx="7848720" cy="54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ЕТЕОРОПАТОЛОГИЈ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ј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део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етеоробиологиј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аук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ој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роучав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везаност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биолошких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етеоролошких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јав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ЕТЕОРОПАТОЛОГИЈ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РОУЧАВ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УТИЦАЈ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ЕТЕОРОЛОШКИХ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ЕЛЕМЕНАТ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ЈАВ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БОЛЕСНОГ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ЧОВЕК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АНАЛИЗИРАЈУЋ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РВЕНСТВЕНО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РАЗВОЈ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ЕКИХ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БОЛЕСТ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ЗАВИСНОСТ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ЕТЕОРОЛОШКИХ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ЕЛЕМЕНАТ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ЈАВ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ЕТЕОРОФИЗИОЛОГИЈ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ј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део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етеоропатологиј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ој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роучав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утицај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етеоролошких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елеменат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јав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ЗДРАВ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РГАНИЗАМ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03240" y="392040"/>
            <a:ext cx="777240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МЕТЕОРОПАТОЛОГИЈА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-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ДЕФИНИЦ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Text Box 3"/>
          <p:cNvSpPr/>
          <p:nvPr/>
        </p:nvSpPr>
        <p:spPr>
          <a:xfrm>
            <a:off x="179280" y="1341360"/>
            <a:ext cx="8569440" cy="55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ЕТЕОРОТРОПН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БОЛЕСТ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болест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чиј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ј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астанак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ок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д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утицајем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етеоролошких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елеменат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јав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АЈПОЗНАТИЈ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ЕТЕОРОТРОПН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БОЛЕСТ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125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болови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у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ожиљц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125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реуматск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егоб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у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зглобов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125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ромбоемболијск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болести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(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плућн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емболиј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коронарн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ромбоз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артеријск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венск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ромбоемболиј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др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125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аст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125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епилепс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125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самоуби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125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инфективн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болести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(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грип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морбили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рубел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полиомиелитис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др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125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алергијск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обољењ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(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поленск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кијавиц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фотодерматоз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др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755640" y="1700280"/>
            <a:ext cx="792000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Звучна изолација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ст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с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војство грађевинске конструкције да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у што већој мери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 спречи преношење звучне енергије из једног простора у друг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Звучна изолација може да буде од ваздушног или структурног звука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и о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стварује се на објекту архитектонско-грађевинским мерама које спречавају пренос звука из једног у други просто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03240" y="392040"/>
            <a:ext cx="777240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МЕТЕОРОПАТОЛОГИЈА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-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МЕХАНИЗАМ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ДЕЛОВА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Text Box 3"/>
          <p:cNvSpPr/>
          <p:nvPr/>
        </p:nvSpPr>
        <p:spPr>
          <a:xfrm>
            <a:off x="324000" y="2576520"/>
            <a:ext cx="842472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ЕХАНИЗАМ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ДЕЛОВАЊ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етеоролошких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елеменат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јав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ок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астанак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бољењ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иј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асвим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знат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МАТР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Д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ЕТЕОРОЛОШК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ЕЛЕМЕНТ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ЈАВ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ДЕЛУЈ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УДРУЖЕНОН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ВЕГЕТАТИВН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ЕРВН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ИСТЕМ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РЕКО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ЊЕГ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ЗАЗИВАЈ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РАЗВОЈ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ИМПТОМ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ЗАНАКОВ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БОЛЕСТ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03240" y="392040"/>
            <a:ext cx="777240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МЕТЕОРОПАТОЛОГИЈА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-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ЗНАЧАЈ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ПОЗНАВА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Text Box 3"/>
          <p:cNvSpPr/>
          <p:nvPr/>
        </p:nvSpPr>
        <p:spPr>
          <a:xfrm>
            <a:off x="900000" y="2048040"/>
            <a:ext cx="7848720" cy="48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Значај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знавањ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ј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огућност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редузимањ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ревентивних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ер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клад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дновном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болешћ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временом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њеног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јављањ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751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лакш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стављањ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дијагно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огућност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давањ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ревентивно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заштитн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ерап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ромен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ли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збегавањ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онта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456840" y="380520"/>
            <a:ext cx="838188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дицинска метеорологија</a:t>
            </a:r>
            <a:r>
              <a:rPr b="0" lang="sr-C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учава утицај временских стања и промена на здрав и болестан организам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 медицинског становишта значајна је и </a:t>
            </a:r>
            <a:r>
              <a:rPr b="1" lang="sr-C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иноптичка метеорологија</a:t>
            </a:r>
            <a:r>
              <a:rPr b="0" lang="sr-C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а прогнозира временске ситуације и на основу којих се дају упутства и савети хроничним болесницима, али и здравим особама, како да поступају у ситуацијама ексцесних временских промена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456840" y="457200"/>
            <a:ext cx="85345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 којим се бави медицинска метеорологија је утицај временских прилика на здраво и болесно становништво. При томе се дели на : </a:t>
            </a:r>
            <a:br>
              <a:rPr sz="3600"/>
            </a:b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теорофизиологију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теоропатологију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теоропрофилаксу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теоротерапиј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ffffff"/>
                </a:solidFill>
                <a:latin typeface="Times New Roman"/>
              </a:rPr>
              <a:t>Синоптички системи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Rectangle 3"/>
          <p:cNvSpPr/>
          <p:nvPr/>
        </p:nvSpPr>
        <p:spPr>
          <a:xfrm>
            <a:off x="304920" y="115920"/>
            <a:ext cx="861048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нтициклон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област повишеног атмосферског притиска. Највиша вредност атмосферског притиска је у центру антициклона, док се према перифереији постепено смањује. У самом централном делу ваздух се са већих висина спушта према земљиној површини, при  чему се загрева, тако да су услови за формирање облака мали. Антициклон подразумева </a:t>
            </a:r>
            <a:r>
              <a:rPr b="0" lang="sr-C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абилно, суво и углавном тихо време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иклон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ваздушна маса која се у нашим пределима углавном премешта са запада на исток или са сверозапада на југоисток. Како се циклони образују на фронталним системима, њиховим премештањем и систем топли-хладни фронт се премешта у истом правцу, узрокујући доста нагле промене времен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аздушни притисак све више опада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етар јача и скреће према југу. Када се центар циклона савим приближи посматраној области, ветар нагло слаби и убрзо почиње да </a:t>
            </a:r>
            <a:r>
              <a:rPr b="0" lang="sr-C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ува јак и хладан ветар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 сверозападног квадранта. </a:t>
            </a:r>
            <a:r>
              <a:rPr b="0" lang="sr-C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мпература нагло опад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917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рема Републичком хидрометеоролошком заводу Србије детерминисане биометеоролошке фазе су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ТС (циклон, топло, суво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ТВ (циклон, топло, влажно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ТФ (топли фронт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ХФ(хладни фронт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ХВ (циклон, хладно, влажно)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ХС (циклон, хладно, суво)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ХС (антициклон, хладно, суво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ХВ (антициклон, хладно, влажно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С (антициклон, топло, суво)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В (антициклон, топло, влажно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Rectangle 1"/>
          <p:cNvSpPr/>
          <p:nvPr/>
        </p:nvSpPr>
        <p:spPr>
          <a:xfrm>
            <a:off x="684360" y="476280"/>
            <a:ext cx="792000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БИОМЕТЕОРОЛОШКЕ ФАЗЕ-БМ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 Box 2"/>
          <p:cNvSpPr/>
          <p:nvPr/>
        </p:nvSpPr>
        <p:spPr>
          <a:xfrm>
            <a:off x="2133720" y="266688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ЈАЧАЊЕ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ОРГАНИЗ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Text Box 2"/>
          <p:cNvSpPr/>
          <p:nvPr/>
        </p:nvSpPr>
        <p:spPr>
          <a:xfrm>
            <a:off x="762120" y="53352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ЈАЧАЊЕ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ОРГАНИЗ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3"/>
          <p:cNvSpPr/>
          <p:nvPr/>
        </p:nvSpPr>
        <p:spPr>
          <a:xfrm>
            <a:off x="762120" y="1600200"/>
            <a:ext cx="7696080" cy="46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ОСОБИТОСТ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ОДИЗАЊ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ОТПОРНОСТ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ОРГАН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Јачањ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организм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ј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недовољно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зучен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роцес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Настај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од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одређеним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овољним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утицајем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фактор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пољн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редин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Одиграв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од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контролом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уз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адејство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ЦНС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Започињ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најранијег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детињств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отребно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ј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одржават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г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током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целог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живот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Text Box 2"/>
          <p:cNvSpPr/>
          <p:nvPr/>
        </p:nvSpPr>
        <p:spPr>
          <a:xfrm>
            <a:off x="762120" y="53352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ЈАЧАЊЕ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ОРГАНИЗ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3"/>
          <p:cNvSpPr/>
          <p:nvPr/>
        </p:nvSpPr>
        <p:spPr>
          <a:xfrm>
            <a:off x="108000" y="1600200"/>
            <a:ext cx="8350200" cy="51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УСЛОВ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НАСТАНК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ОДРЖАВАЊ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Неопходно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ј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тално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онављат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роцедур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збегават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дуж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рекид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змеђу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њих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остепено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мењат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услов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фактор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римењиват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х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в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дуж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виш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Неопходн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ј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истематичност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што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одразумев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д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роцесим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треб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започет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најранијем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детињству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римењиват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х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до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дубок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тарост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без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великих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рекид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Неопходно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ј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стовремено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злагањ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дејству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виш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редстав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Text Box 2"/>
          <p:cNvSpPr/>
          <p:nvPr/>
        </p:nvSpPr>
        <p:spPr>
          <a:xfrm>
            <a:off x="762120" y="53352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ЈАЧАЊЕ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ОРГАНИЗ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3"/>
          <p:cNvSpPr/>
          <p:nvPr/>
        </p:nvSpPr>
        <p:spPr>
          <a:xfrm>
            <a:off x="762120" y="2249640"/>
            <a:ext cx="632448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ОРГАНИЗАМ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МОЖЕМО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ЈАЧА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ВАЗДУХ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СУНЦ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ВОД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0T10:27:59Z</dcterms:created>
  <dc:creator>Windows User</dc:creator>
  <dc:description/>
  <dc:language>en-US</dc:language>
  <cp:lastModifiedBy>Pc</cp:lastModifiedBy>
  <dcterms:modified xsi:type="dcterms:W3CDTF">2020-09-06T10:22:21Z</dcterms:modified>
  <cp:revision>22</cp:revision>
  <dc:subject/>
  <dc:title>ХИГИЈЕНА И ЕКОЛОГИЈА</dc:title>
</cp:coreProperties>
</file>